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961-2124-48A3-9811-DC0E0DDA9D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змеченные настроенные транзиционные системы, рассматриваемые с точностью до трассовой эквивалентности, – это обычные распознающие автоматы (действия – входные символы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квивалентность тем сильнее, чем больше объектов она различ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3B5-5409-4FCF-AECA-372AFD35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3E6-5E84-4E8C-83C1-CA803DC5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04F-41D9-4A8E-8D63-06658D40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143-1F3F-4EDF-8B05-4E0AD401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3A1-D5A6-4FC1-B6B8-DAB0C43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674-67AD-43F9-AF3D-4AA540D2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27A-9880-4743-9398-940A1A2C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4E7-3B74-410B-B494-991CF7D8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2B1-30D5-44A6-9390-25F5299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E9F-3434-45A9-A0CF-51AB8F2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841-F3B3-48BF-B32A-0834F92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737-29FC-4B34-905B-9261616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6445-FD29-4BA2-811A-60BBC7193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1.wmf"/><Relationship Id="rId15" Type="http://schemas.openxmlformats.org/officeDocument/2006/relationships/image" Target="../media/image3.jpeg"/><Relationship Id="rId16" Type="http://schemas.openxmlformats.org/officeDocument/2006/relationships/image" Target="../media/image2.gif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1.wmf"/><Relationship Id="rId26" Type="http://schemas.openxmlformats.org/officeDocument/2006/relationships/image" Target="../media/image3.jpeg"/><Relationship Id="rId27" Type="http://schemas.openxmlformats.org/officeDocument/2006/relationships/image" Target="../media/image2.gif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66"/>
                </a:solidFill>
                <a:latin typeface="Times New Roman"/>
              </a:rPr>
              <a:t>Инсерционное моделирование</a:t>
            </a:r>
            <a:br>
              <a:rPr sz="3200"/>
            </a:br>
            <a:br>
              <a:rPr sz="3200"/>
            </a:br>
            <a:r>
              <a:rPr b="1" lang="uk-UA" sz="2800" spc="-1" strike="noStrike">
                <a:solidFill>
                  <a:srgbClr val="cc0066"/>
                </a:solidFill>
                <a:latin typeface="Times New Roman"/>
              </a:rPr>
              <a:t>Лекция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 1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cc0066"/>
                </a:solidFill>
                <a:latin typeface="Times New Roman"/>
              </a:rPr>
              <a:t>Транзиционные системы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302160" y="103824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D.Park (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Размеченные транзиционные системы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62120" y="990720"/>
                <a:ext cx="45669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⊆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258920" y="2133720"/>
                <a:ext cx="1712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34290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ножество ме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имвол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обыт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действ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1600200"/>
            <a:ext cx="4876920" cy="43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епрерывные динамические систе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ействия – длительность перехода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втома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ходные символы, вход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ых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рограм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ператоры, усло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счис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остояния – формул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ействия – правила выв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заимодействующие распределенные систе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ередача (прием) сообщ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азы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запросы, ответ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58A-05C1-428C-AC51-2C29B695B1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Смешанные системы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371600" y="1752480"/>
                <a:ext cx="5878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⊆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∪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711440" y="2819520"/>
                <a:ext cx="19461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981080" y="4083120"/>
                <a:ext cx="1378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657600" y="2971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блюдаемые пере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1274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крытые пере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бстракция и конкрет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BAA-222E-4B5E-BDDE-E729A892CE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Атрибутные транзиционные системы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38080" y="1371600"/>
                <a:ext cx="44038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S</m:t>
                    </m:r>
                    <m:r>
                      <m:t xml:space="preserve">→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0720" y="2286000"/>
                <a:ext cx="1344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14400" y="3276720"/>
                <a:ext cx="22208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ξ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sup>
                    </m:sSub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ξ</m:t>
                        </m:r>
                        <m:r>
                          <m:t xml:space="preserve">∈</m:t>
                        </m:r>
                        <m:r>
                          <m:t xml:space="preserve">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988560" y="4648320"/>
            <a:ext cx="323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{0,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е размеченные переход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1303200"/>
            <a:ext cx="2971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Автоматы М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4520" y="2282760"/>
            <a:ext cx="44956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Программы над памя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3352680"/>
            <a:ext cx="46483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Типизированная пам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4680000"/>
            <a:ext cx="6400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Системы Крипке (модальная лог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2819520"/>
            <a:ext cx="1524240" cy="457200"/>
          </a:xfrm>
          <a:prstGeom prst="wedgeRoundRectCallout">
            <a:avLst>
              <a:gd name="adj1" fmla="val -68333"/>
              <a:gd name="adj2" fmla="val -1125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атрибу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AC1-216C-4024-B5CC-E410E23FD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Настроенные системы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743200" y="1219320"/>
                <a:ext cx="35053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/>
                    </m:sSub>
                    <m:r>
                      <m:t xml:space="preserve">⊆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09480" y="38862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imes New Roman"/>
              </a:rPr>
              <a:t>Другие важные классы транзиционных систе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Стохастические и нечетк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Системы реального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2362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начальные состо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заключительные состо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неопределенные состо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838080" y="2346480"/>
                <a:ext cx="4096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26920" y="2698920"/>
                <a:ext cx="454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09640" y="3044880"/>
                <a:ext cx="466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7AB-3160-459E-8F1C-0D1CB644BE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7712400">
            <a:off x="4744800" y="3809880"/>
            <a:ext cx="1274760" cy="503280"/>
          </a:xfrm>
          <a:custGeom>
            <a:avLst/>
            <a:gdLst>
              <a:gd name="textAreaLeft" fmla="*/ 199080 w 1274760"/>
              <a:gd name="textAreaRight" fmla="*/ 1143360 w 1274760"/>
              <a:gd name="textAreaTop" fmla="*/ 136800 h 503280"/>
              <a:gd name="textAreaBottom" fmla="*/ 36648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882"/>
                </a:moveTo>
                <a:lnTo>
                  <a:pt x="16700" y="5882"/>
                </a:lnTo>
                <a:lnTo>
                  <a:pt x="16700" y="0"/>
                </a:lnTo>
                <a:lnTo>
                  <a:pt x="21600" y="10800"/>
                </a:lnTo>
                <a:lnTo>
                  <a:pt x="16700" y="21600"/>
                </a:lnTo>
                <a:lnTo>
                  <a:pt x="16700" y="15718"/>
                </a:lnTo>
                <a:lnTo>
                  <a:pt x="3375" y="15718"/>
                </a:lnTo>
                <a:close/>
              </a:path>
              <a:path w="21600" h="21600">
                <a:moveTo>
                  <a:pt x="0" y="5882"/>
                </a:moveTo>
                <a:lnTo>
                  <a:pt x="675" y="5882"/>
                </a:lnTo>
                <a:lnTo>
                  <a:pt x="675" y="15718"/>
                </a:lnTo>
                <a:lnTo>
                  <a:pt x="0" y="15718"/>
                </a:lnTo>
                <a:close/>
              </a:path>
              <a:path w="21600" h="21600">
                <a:moveTo>
                  <a:pt x="1350" y="5882"/>
                </a:moveTo>
                <a:lnTo>
                  <a:pt x="2700" y="5882"/>
                </a:lnTo>
                <a:lnTo>
                  <a:pt x="2700" y="15718"/>
                </a:lnTo>
                <a:lnTo>
                  <a:pt x="1350" y="1571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762120"/>
            <a:ext cx="861048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5992200" y="1431720"/>
            <a:ext cx="1656000" cy="129708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66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Применения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080" y="2743200"/>
            <a:ext cx="510156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делирование поведения и взаимо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следование моделей и предсказ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9400" y="2895480"/>
            <a:ext cx="219528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нерация к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нерация тес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1371600"/>
            <a:ext cx="14475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фт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066680"/>
            <a:ext cx="144792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д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08280" y="838080"/>
            <a:ext cx="2371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9960" y="1274760"/>
            <a:ext cx="19875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17524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666880" y="1295280"/>
            <a:ext cx="1828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048120" y="182880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038480" y="1523880"/>
            <a:ext cx="3733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158560" y="3752640"/>
            <a:ext cx="1008360" cy="50328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10880" y="4495680"/>
            <a:ext cx="446616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 исследования моде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5029200"/>
            <a:ext cx="2133360" cy="115236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азатель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5029200"/>
            <a:ext cx="1981440" cy="115236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8000" y="5334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762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285640" y="18288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1447920"/>
            <a:ext cx="2514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6E7-6D3C-4126-B8D3-8705B0DFF1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Трассовая эквивалентность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9560" y="1668600"/>
                <a:ext cx="37335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755640" y="1135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Истор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351160" y="2430360"/>
                <a:ext cx="1752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752040" y="25066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Тра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979560" y="3876840"/>
                <a:ext cx="44193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754560" y="31161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Трасса для атрибутной сист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07920" y="5554800"/>
            <a:ext cx="4375440" cy="769320"/>
            <a:chOff x="907920" y="5554800"/>
            <a:chExt cx="4375440" cy="7693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907920" y="5554800"/>
                  <a:ext cx="120024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3722760" y="5600520"/>
                  <a:ext cx="5619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721400" y="5597280"/>
                  <a:ext cx="56196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>
              <a:off x="2124720" y="57085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трассы и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34040" y="570672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62120" y="1905120"/>
                <a:ext cx="74293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L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Δ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044720" y="4610160"/>
                <a:ext cx="938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840120" y="4770360"/>
                <a:ext cx="338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130840" y="47260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трассы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70120" y="3795840"/>
                <a:ext cx="54118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⇔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911-145D-4DCB-9925-359262A258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836640" y="219240"/>
          <a:ext cx="7350120" cy="63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19240"/>
                    <a:ext cx="7350120" cy="63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304920" y="990720"/>
            <a:ext cx="411480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детерминирова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80880" y="1447920"/>
                <a:ext cx="35053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∧</m:t>
                    </m:r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∧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S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D79-B8EA-4C63-85CB-5364DEE5C9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538200" y="299880"/>
          <a:ext cx="81471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299880"/>
                    <a:ext cx="81471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3034080" y="24033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91320" y="2327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288-48DC-4CE3-87A1-A8CD7912AA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Бисимуляционная  эквивалентность</a:t>
            </a:r>
            <a:br>
              <a:rPr sz="32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bisimilarity (Milner 1980, D.Park 1981)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309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тношение бисимуляции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(bisimulation)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243400" y="1262160"/>
                <a:ext cx="1005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⊆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47560" y="1828800"/>
                <a:ext cx="728532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t</m:t>
                        </m:r>
                        <m:r>
                          <m:t xml:space="preserve">⇒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∃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4878720" y="3774960"/>
            <a:ext cx="2309040" cy="1481400"/>
            <a:chOff x="4878720" y="3774960"/>
            <a:chExt cx="2309040" cy="1481400"/>
          </a:xfrm>
        </p:grpSpPr>
        <p:sp>
          <p:nvSpPr>
            <p:cNvPr id="350" name=""/>
            <p:cNvSpPr/>
            <p:nvPr/>
          </p:nvSpPr>
          <p:spPr>
            <a:xfrm>
              <a:off x="5837400" y="377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9400" y="48751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14880" y="48751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40370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05520" y="403704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18932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8000" y="502776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57800" y="434196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80240" y="434196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78720" y="434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7320" y="39276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57920" y="459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41640" y="3938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1760" y="479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0880" y="4776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04360" y="4343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113120" y="3776760"/>
            <a:ext cx="2288160" cy="1481040"/>
            <a:chOff x="1113120" y="3776760"/>
            <a:chExt cx="2288160" cy="1481040"/>
          </a:xfrm>
        </p:grpSpPr>
        <p:sp>
          <p:nvSpPr>
            <p:cNvPr id="367" name=""/>
            <p:cNvSpPr/>
            <p:nvPr/>
          </p:nvSpPr>
          <p:spPr>
            <a:xfrm>
              <a:off x="2071800" y="3776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638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4928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63800" y="4038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39920" y="40384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44480" y="419112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2760" y="50292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92200" y="4343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4640" y="4343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13120" y="4343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41720" y="39290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92320" y="4594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76040" y="39402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46520" y="4800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95280" y="4778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17880" y="434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346040" y="4813200"/>
                  <a:ext cx="3366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908440" y="4813200"/>
                  <a:ext cx="280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092560" y="4800600"/>
                <a:ext cx="336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680160" y="4813200"/>
                <a:ext cx="2811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E65-EC17-474F-A2A6-3C07093FBF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5960" y="30492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Бисимуляция есть эквивален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600200" y="3429000"/>
                <a:ext cx="5867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и  {</m:t>
                            </m:r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бисимуляционно эквивалентны</m:t>
                        </m:r>
                      </m:e>
                    </m:eqArr>
                    <m:r>
                      <m:t xml:space="preserve">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∃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бисимуляция 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762120" y="5105520"/>
            <a:ext cx="71625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исимуляционная эквивалентность состояний совпадает с максимальной бисимуляцией на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187800" y="609480"/>
            <a:ext cx="2374920" cy="2471760"/>
            <a:chOff x="3187800" y="609480"/>
            <a:chExt cx="2374920" cy="2471760"/>
          </a:xfrm>
        </p:grpSpPr>
        <p:sp>
          <p:nvSpPr>
            <p:cNvPr id="391" name=""/>
            <p:cNvSpPr/>
            <p:nvPr/>
          </p:nvSpPr>
          <p:spPr>
            <a:xfrm>
              <a:off x="4953240" y="270036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59280" y="2624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08400" y="2601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4991400" y="2603520"/>
                  <a:ext cx="3664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"/>
            <p:cNvSpPr/>
            <p:nvPr/>
          </p:nvSpPr>
          <p:spPr>
            <a:xfrm>
              <a:off x="4959360" y="18619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35480" y="18619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67360" y="60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9360" y="17096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4840" y="17096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59360" y="8715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35480" y="8715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0400" y="102384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8320" y="186192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7760" y="117612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10200" y="117612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6880" y="1176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37280" y="761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88240" y="1427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71600" y="7729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42080" y="1633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91200" y="1611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12000" y="1174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441960" y="1646280"/>
                  <a:ext cx="33624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5004000" y="1646280"/>
                  <a:ext cx="2808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"/>
            <p:cNvSpPr/>
            <p:nvPr/>
          </p:nvSpPr>
          <p:spPr>
            <a:xfrm>
              <a:off x="3444840" y="27003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40400" y="201456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48320" y="285264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87760" y="216684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10200" y="216684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88240" y="241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3448080" y="2590560"/>
                  <a:ext cx="3970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3187800" y="2209680"/>
                  <a:ext cx="43812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5112000" y="1218960"/>
                  <a:ext cx="35064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124600" y="2209680"/>
                  <a:ext cx="43812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3206880" y="1218960"/>
                  <a:ext cx="35100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E3D-A228-4B2B-B83C-51F8483286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457200"/>
            <a:ext cx="822960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нсерционное моделирова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Построение и исследование моделей реальных систем путем их представления в виде композиции взаимодействующих агентов и ср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819520"/>
            <a:ext cx="8229600" cy="308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генты: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змеченные транзиционны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реды: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рибутные транзиционны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мпозиция: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епрерывная функция погру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арактеризующая поведение среды с погруженными в нее агент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sertion function)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86A-2038-4DA7-B9FA-0CCA39FE0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666880" y="1828800"/>
                <a:ext cx="37753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⇔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∧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∃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767880" y="83808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Отношение бисимуляции распространяется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состояния разных сист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46720" y="3352680"/>
            <a:ext cx="73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ля детерминированных систем бисимуляцио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эквивалентность состояний совпадает с трассов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Бисимуляционная  эквивалентность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373400" y="4343400"/>
            <a:ext cx="6130080" cy="1484280"/>
            <a:chOff x="1373400" y="4343400"/>
            <a:chExt cx="6130080" cy="1484280"/>
          </a:xfrm>
        </p:grpSpPr>
        <p:sp>
          <p:nvSpPr>
            <p:cNvPr id="431" name=""/>
            <p:cNvSpPr/>
            <p:nvPr/>
          </p:nvSpPr>
          <p:spPr>
            <a:xfrm>
              <a:off x="2330280" y="4346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4080" y="5446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9560" y="5446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24080" y="4608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00200" y="4608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5120" y="47610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3040" y="559908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52480" y="49132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74920" y="49132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3400" y="4913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00200" y="4498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1160" y="516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35240" y="451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06800" y="5370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55560" y="534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78520" y="4911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41880" y="4346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35320" y="5446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21160" y="54468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5320" y="4608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11440" y="4608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16360" y="47610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24280" y="559908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63720" y="49132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86160" y="49132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84640" y="4913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11440" y="4498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2400" y="516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6480" y="451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8040" y="5370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67160" y="5348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9760" y="4911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72200" y="4346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66000" y="54468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1480" y="54468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66000" y="4608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41760" y="4608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46680" y="476100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54600" y="559908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94400" y="49132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116840" y="49132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14960" y="4913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41760" y="4498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92720" y="5164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77160" y="4510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48360" y="53704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97480" y="5348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20080" y="4911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9" name=""/>
                <p:cNvSpPr txBox="1"/>
                <p:nvPr/>
              </p:nvSpPr>
              <p:spPr>
                <a:xfrm>
                  <a:off x="2317680" y="4365720"/>
                  <a:ext cx="27792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4203720" y="4365720"/>
                  <a:ext cx="3236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127560" y="4343400"/>
                  <a:ext cx="30168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400120" y="5203800"/>
                  <a:ext cx="27792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4228920" y="5218200"/>
                  <a:ext cx="324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6134040" y="5257800"/>
                  <a:ext cx="30168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D56-3EAF-4FD7-A158-375C1F5648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Бисимуляционная  эквивалентность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смешанных систем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04920" y="2625840"/>
                <a:ext cx="845820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t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/>
                        </m:acc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/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r>
                          <m:t xml:space="preserve">∃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u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r>
                          <m:t xml:space="preserve">∃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u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r>
                          <m:t xml:space="preserve">∃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u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∃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∧</m:t>
                        </m:r>
                        <m:r>
                          <m:t xml:space="preserve">∃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u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5F6-986D-4325-A719-C94255910A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Редукция смешанных систем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84600" y="17524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7400" y="1676520"/>
            <a:ext cx="649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Добавляем новые переходы и настройку состояний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39200" y="2346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84600" y="26877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690920" y="2438280"/>
            <a:ext cx="5815440" cy="1852560"/>
            <a:chOff x="1690920" y="2438280"/>
            <a:chExt cx="5815440" cy="1852560"/>
          </a:xfrm>
        </p:grpSpPr>
        <p:sp>
          <p:nvSpPr>
            <p:cNvPr id="493" name=""/>
            <p:cNvSpPr/>
            <p:nvPr/>
          </p:nvSpPr>
          <p:spPr>
            <a:xfrm>
              <a:off x="2976480" y="2987640"/>
              <a:ext cx="3102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65480" y="304488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08080" y="304488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65400" y="250488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20880" y="250488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33520" y="250488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07800" y="2504880"/>
              <a:ext cx="14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04960" y="3012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04880" y="2471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58800" y="29829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09480" y="29829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39000" y="300024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6680" y="3000240"/>
              <a:ext cx="309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78800" y="300024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58720" y="24382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09400" y="24382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9280" y="24606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76600" y="2460600"/>
              <a:ext cx="309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78720" y="24606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64880" y="24382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77520" y="24382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07040" y="24606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43280" y="2460600"/>
              <a:ext cx="309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77080" y="24606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77600" y="250488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0640" y="2471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62120" y="30398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37800" y="34653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43920" y="37893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61080" y="37893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38840" y="37893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56000" y="37893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99960" y="3789360"/>
              <a:ext cx="99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85640" y="375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29000" y="4013280"/>
              <a:ext cx="16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4013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24280" y="4013280"/>
              <a:ext cx="16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0800" y="4013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8440" y="3749760"/>
              <a:ext cx="281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98040" y="3749760"/>
              <a:ext cx="3146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73360" y="3749760"/>
              <a:ext cx="281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08480" y="372744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98800" y="372744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86560" y="374976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36480" y="3749760"/>
              <a:ext cx="319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65960" y="374976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07240" y="378936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29440" y="378936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59920" y="378936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02160" y="378936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24360" y="378936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58000" y="378936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43640" y="378936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0920" y="378936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47680" y="40161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79600" y="48308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2080" y="5084640"/>
            <a:ext cx="3571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Удаляем скрытые переходы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8120" y="50846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600" y="5425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923-9114-4F82-AE55-642F25A097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Смешанная транзиционная система и ее редукция 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бисимуляционно эквивалентны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3581280" y="3370320"/>
                <a:ext cx="17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⊆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395000" y="340344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бисиму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85800" y="1905120"/>
                <a:ext cx="16002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2384280" y="1908000"/>
            <a:ext cx="32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смеша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22440" y="2397240"/>
            <a:ext cx="32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ее редукц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143000" y="4667400"/>
                <a:ext cx="61722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⇔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CB5-CE5D-4AB1-83AC-37A0FF5ABF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N00734_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2057400" cy="16322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200400" y="1219320"/>
            <a:ext cx="2438280" cy="1592280"/>
            <a:chOff x="3200400" y="1219320"/>
            <a:chExt cx="2438280" cy="1592280"/>
          </a:xfrm>
        </p:grpSpPr>
        <p:pic>
          <p:nvPicPr>
            <p:cNvPr id="53" name="j0174022" descr=""/>
            <p:cNvPicPr/>
            <p:nvPr/>
          </p:nvPicPr>
          <p:blipFill>
            <a:blip r:embed="rId2"/>
            <a:stretch/>
          </p:blipFill>
          <p:spPr>
            <a:xfrm>
              <a:off x="4087800" y="1219320"/>
              <a:ext cx="155088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200400" y="1795320"/>
              <a:ext cx="720720" cy="511200"/>
            </a:xfrm>
            <a:prstGeom prst="leftArrow">
              <a:avLst>
                <a:gd name="adj1" fmla="val 50000"/>
                <a:gd name="adj2" fmla="val 3524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838080" y="609480"/>
            <a:ext cx="25815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vironmen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2514600" cy="198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7A1-6233-47C3-A01D-340AF1131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N00734_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2057400" cy="1632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5867280" y="1295280"/>
            <a:ext cx="2895840" cy="1575000"/>
            <a:chOff x="5867280" y="1295280"/>
            <a:chExt cx="2895840" cy="1575000"/>
          </a:xfrm>
        </p:grpSpPr>
        <p:pic>
          <p:nvPicPr>
            <p:cNvPr id="59" name="j0289834" descr=""/>
            <p:cNvPicPr/>
            <p:nvPr/>
          </p:nvPicPr>
          <p:blipFill>
            <a:blip r:embed="rId2"/>
            <a:stretch/>
          </p:blipFill>
          <p:spPr>
            <a:xfrm>
              <a:off x="6781680" y="1295280"/>
              <a:ext cx="198144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867280" y="1876680"/>
              <a:ext cx="720720" cy="487440"/>
            </a:xfrm>
            <a:prstGeom prst="leftArrow">
              <a:avLst>
                <a:gd name="adj1" fmla="val 50000"/>
                <a:gd name="adj2" fmla="val 3696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00400" y="1219320"/>
            <a:ext cx="2438280" cy="1592280"/>
            <a:chOff x="3200400" y="1219320"/>
            <a:chExt cx="2438280" cy="1592280"/>
          </a:xfrm>
        </p:grpSpPr>
        <p:pic>
          <p:nvPicPr>
            <p:cNvPr id="62" name="j0174022" descr=""/>
            <p:cNvPicPr/>
            <p:nvPr/>
          </p:nvPicPr>
          <p:blipFill>
            <a:blip r:embed="rId3"/>
            <a:stretch/>
          </p:blipFill>
          <p:spPr>
            <a:xfrm>
              <a:off x="4087800" y="1219320"/>
              <a:ext cx="155088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00400" y="1795320"/>
              <a:ext cx="720720" cy="511200"/>
            </a:xfrm>
            <a:prstGeom prst="leftArrow">
              <a:avLst>
                <a:gd name="adj1" fmla="val 50000"/>
                <a:gd name="adj2" fmla="val 3524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 txBox="1"/>
          <p:nvPr/>
        </p:nvSpPr>
        <p:spPr>
          <a:xfrm>
            <a:off x="838080" y="533520"/>
            <a:ext cx="502920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vironmen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219320"/>
            <a:ext cx="4953240" cy="198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8DC-7CAA-4314-8434-9B73AB07CF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295280"/>
            <a:ext cx="8305920" cy="1752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N00734_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057400" cy="16318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5867280" y="1447920"/>
            <a:ext cx="2590560" cy="1574640"/>
            <a:chOff x="5867280" y="1447920"/>
            <a:chExt cx="2590560" cy="1574640"/>
          </a:xfrm>
        </p:grpSpPr>
        <p:pic>
          <p:nvPicPr>
            <p:cNvPr id="69" name="j0289834" descr=""/>
            <p:cNvPicPr/>
            <p:nvPr/>
          </p:nvPicPr>
          <p:blipFill>
            <a:blip r:embed="rId2"/>
            <a:stretch/>
          </p:blipFill>
          <p:spPr>
            <a:xfrm>
              <a:off x="6685200" y="1447920"/>
              <a:ext cx="177264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867280" y="2028960"/>
              <a:ext cx="644760" cy="487440"/>
            </a:xfrm>
            <a:prstGeom prst="leftArrow">
              <a:avLst>
                <a:gd name="adj1" fmla="val 50000"/>
                <a:gd name="adj2" fmla="val 3306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200400" y="1447920"/>
            <a:ext cx="2438280" cy="1592280"/>
            <a:chOff x="3200400" y="1447920"/>
            <a:chExt cx="2438280" cy="1592280"/>
          </a:xfrm>
        </p:grpSpPr>
        <p:pic>
          <p:nvPicPr>
            <p:cNvPr id="72" name="j0174022" descr=""/>
            <p:cNvPicPr/>
            <p:nvPr/>
          </p:nvPicPr>
          <p:blipFill>
            <a:blip r:embed="rId3"/>
            <a:stretch/>
          </p:blipFill>
          <p:spPr>
            <a:xfrm>
              <a:off x="4087800" y="1447920"/>
              <a:ext cx="155088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00400" y="2023920"/>
              <a:ext cx="720720" cy="511200"/>
            </a:xfrm>
            <a:prstGeom prst="leftArrow">
              <a:avLst>
                <a:gd name="adj1" fmla="val 50000"/>
                <a:gd name="adj2" fmla="val 3524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838080" y="762120"/>
            <a:ext cx="8077320" cy="47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vironment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7200" y="3429000"/>
            <a:ext cx="7924320" cy="838080"/>
            <a:chOff x="457200" y="3429000"/>
            <a:chExt cx="7924320" cy="838080"/>
          </a:xfrm>
        </p:grpSpPr>
        <p:sp>
          <p:nvSpPr>
            <p:cNvPr id="76" name=""/>
            <p:cNvSpPr/>
            <p:nvPr/>
          </p:nvSpPr>
          <p:spPr>
            <a:xfrm>
              <a:off x="457200" y="3429000"/>
              <a:ext cx="7924320" cy="8380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156320" y="3608280"/>
              <a:ext cx="6603840" cy="47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534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Operating System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 flipV="1">
            <a:off x="8534520" y="1828080"/>
            <a:ext cx="380880" cy="2133720"/>
          </a:xfrm>
          <a:custGeom>
            <a:avLst/>
            <a:gdLst>
              <a:gd name="textAreaLeft" fmla="*/ 50760 w 380880"/>
              <a:gd name="textAreaRight" fmla="*/ 330120 w 380880"/>
              <a:gd name="textAreaTop" fmla="*/ 397800 h 2133720"/>
              <a:gd name="textAreaBottom" fmla="*/ 15667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57" stAng="-5400000" swAng="-5400000"/>
                <a:lnTo>
                  <a:pt x="0" y="11829"/>
                </a:lnTo>
                <a:arcTo wR="21600" hR="8057" stAng="10800000" swAng="-1116350"/>
                <a:lnTo>
                  <a:pt x="5565" y="18941"/>
                </a:lnTo>
                <a:lnTo>
                  <a:pt x="21600" y="18000"/>
                </a:lnTo>
                <a:lnTo>
                  <a:pt x="5565" y="11741"/>
                </a:lnTo>
                <a:lnTo>
                  <a:pt x="5565" y="13455"/>
                </a:lnTo>
                <a:arcTo wR="21600" hR="8057" stAng="9683650" swAng="808432"/>
                <a:lnTo>
                  <a:pt x="600" y="9943"/>
                </a:lnTo>
                <a:arcTo wR="21600" hR="8057" stAng="-10492082" swAng="5092082"/>
                <a:close/>
              </a:path>
              <a:path fill="darkenLess" w="21600" h="21600">
                <a:moveTo>
                  <a:pt x="21600" y="0"/>
                </a:moveTo>
                <a:arcTo wR="21600" hR="8057" stAng="-5400000" swAng="-5400000"/>
                <a:lnTo>
                  <a:pt x="0" y="8057"/>
                </a:lnTo>
                <a:arcTo wR="21600" hR="8057" stAng="10800000" swAng="-307918"/>
                <a:lnTo>
                  <a:pt x="600" y="9943"/>
                </a:lnTo>
                <a:arcTo wR="21600" hR="8057" stAng="-10492082" swAng="509208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077320" cy="198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229-0E60-4FD5-A8E9-8536BAA5B4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1295280"/>
            <a:ext cx="8305920" cy="1752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N00734_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057400" cy="16318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5867280" y="1447920"/>
            <a:ext cx="2590560" cy="1574640"/>
            <a:chOff x="5867280" y="1447920"/>
            <a:chExt cx="2590560" cy="1574640"/>
          </a:xfrm>
        </p:grpSpPr>
        <p:pic>
          <p:nvPicPr>
            <p:cNvPr id="83" name="j0289834" descr=""/>
            <p:cNvPicPr/>
            <p:nvPr/>
          </p:nvPicPr>
          <p:blipFill>
            <a:blip r:embed="rId2"/>
            <a:stretch/>
          </p:blipFill>
          <p:spPr>
            <a:xfrm>
              <a:off x="6685200" y="1447920"/>
              <a:ext cx="177264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867280" y="2028960"/>
              <a:ext cx="644760" cy="487440"/>
            </a:xfrm>
            <a:prstGeom prst="leftArrow">
              <a:avLst>
                <a:gd name="adj1" fmla="val 50000"/>
                <a:gd name="adj2" fmla="val 3306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00400" y="1447920"/>
            <a:ext cx="2438280" cy="1592280"/>
            <a:chOff x="3200400" y="1447920"/>
            <a:chExt cx="2438280" cy="1592280"/>
          </a:xfrm>
        </p:grpSpPr>
        <p:pic>
          <p:nvPicPr>
            <p:cNvPr id="86" name="j0174022" descr=""/>
            <p:cNvPicPr/>
            <p:nvPr/>
          </p:nvPicPr>
          <p:blipFill>
            <a:blip r:embed="rId3"/>
            <a:stretch/>
          </p:blipFill>
          <p:spPr>
            <a:xfrm>
              <a:off x="4087800" y="1447920"/>
              <a:ext cx="155088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00400" y="2023920"/>
              <a:ext cx="720720" cy="511200"/>
            </a:xfrm>
            <a:prstGeom prst="leftArrow">
              <a:avLst>
                <a:gd name="adj1" fmla="val 50000"/>
                <a:gd name="adj2" fmla="val 3524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838080" y="762120"/>
            <a:ext cx="8077320" cy="47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vironment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429000"/>
            <a:ext cx="7924320" cy="838080"/>
            <a:chOff x="457200" y="3429000"/>
            <a:chExt cx="7924320" cy="838080"/>
          </a:xfrm>
        </p:grpSpPr>
        <p:sp>
          <p:nvSpPr>
            <p:cNvPr id="90" name=""/>
            <p:cNvSpPr/>
            <p:nvPr/>
          </p:nvSpPr>
          <p:spPr>
            <a:xfrm>
              <a:off x="457200" y="3429000"/>
              <a:ext cx="7924320" cy="8380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156320" y="3608280"/>
              <a:ext cx="6603840" cy="47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534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Operating System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 flipV="1">
            <a:off x="8534520" y="1828080"/>
            <a:ext cx="380880" cy="2133720"/>
          </a:xfrm>
          <a:custGeom>
            <a:avLst/>
            <a:gdLst>
              <a:gd name="textAreaLeft" fmla="*/ 50760 w 380880"/>
              <a:gd name="textAreaRight" fmla="*/ 330120 w 380880"/>
              <a:gd name="textAreaTop" fmla="*/ 397800 h 2133720"/>
              <a:gd name="textAreaBottom" fmla="*/ 15667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57" stAng="-5400000" swAng="-5400000"/>
                <a:lnTo>
                  <a:pt x="0" y="11829"/>
                </a:lnTo>
                <a:arcTo wR="21600" hR="8057" stAng="10800000" swAng="-1116350"/>
                <a:lnTo>
                  <a:pt x="5565" y="18941"/>
                </a:lnTo>
                <a:lnTo>
                  <a:pt x="21600" y="18000"/>
                </a:lnTo>
                <a:lnTo>
                  <a:pt x="5565" y="11741"/>
                </a:lnTo>
                <a:lnTo>
                  <a:pt x="5565" y="13455"/>
                </a:lnTo>
                <a:arcTo wR="21600" hR="8057" stAng="9683650" swAng="808432"/>
                <a:lnTo>
                  <a:pt x="600" y="9943"/>
                </a:lnTo>
                <a:arcTo wR="21600" hR="8057" stAng="-10492082" swAng="5092082"/>
                <a:close/>
              </a:path>
              <a:path fill="darkenLess" w="21600" h="21600">
                <a:moveTo>
                  <a:pt x="21600" y="0"/>
                </a:moveTo>
                <a:arcTo wR="21600" hR="8057" stAng="-5400000" swAng="-5400000"/>
                <a:lnTo>
                  <a:pt x="0" y="8057"/>
                </a:lnTo>
                <a:arcTo wR="21600" hR="8057" stAng="10800000" swAng="-307918"/>
                <a:lnTo>
                  <a:pt x="600" y="9943"/>
                </a:lnTo>
                <a:arcTo wR="21600" hR="8057" stAng="-10492082" swAng="509208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47920"/>
            <a:ext cx="853452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4267080"/>
            <a:ext cx="2438280" cy="914040"/>
            <a:chOff x="457200" y="4267080"/>
            <a:chExt cx="2438280" cy="914040"/>
          </a:xfrm>
        </p:grpSpPr>
        <p:sp>
          <p:nvSpPr>
            <p:cNvPr id="95" name=""/>
            <p:cNvSpPr/>
            <p:nvPr/>
          </p:nvSpPr>
          <p:spPr>
            <a:xfrm>
              <a:off x="457200" y="4571640"/>
              <a:ext cx="2438280" cy="6094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85800" y="4724280"/>
              <a:ext cx="1957320" cy="34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8564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pplication 1</a:t>
              </a:r>
              <a:endPara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4267080"/>
              <a:ext cx="45720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248520" y="4267080"/>
            <a:ext cx="2438280" cy="838080"/>
            <a:chOff x="6248520" y="4267080"/>
            <a:chExt cx="2438280" cy="838080"/>
          </a:xfrm>
        </p:grpSpPr>
        <p:grpSp>
          <p:nvGrpSpPr>
            <p:cNvPr id="99" name=""/>
            <p:cNvGrpSpPr/>
            <p:nvPr/>
          </p:nvGrpSpPr>
          <p:grpSpPr>
            <a:xfrm>
              <a:off x="6248520" y="4546440"/>
              <a:ext cx="2438280" cy="558720"/>
              <a:chOff x="6248520" y="4546440"/>
              <a:chExt cx="2438280" cy="558720"/>
            </a:xfrm>
          </p:grpSpPr>
          <p:sp>
            <p:nvSpPr>
              <p:cNvPr id="100" name=""/>
              <p:cNvSpPr/>
              <p:nvPr/>
            </p:nvSpPr>
            <p:spPr>
              <a:xfrm>
                <a:off x="6248520" y="4546440"/>
                <a:ext cx="2438280" cy="558720"/>
              </a:xfrm>
              <a:prstGeom prst="roundRect">
                <a:avLst>
                  <a:gd name="adj" fmla="val 16667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477120" y="4686120"/>
                <a:ext cx="1957320" cy="320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8564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pplication 3</a:t>
                </a:r>
                <a:endPara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7238880" y="4267080"/>
              <a:ext cx="457200" cy="279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429000" y="4267080"/>
            <a:ext cx="2438280" cy="914040"/>
            <a:chOff x="3429000" y="4267080"/>
            <a:chExt cx="2438280" cy="914040"/>
          </a:xfrm>
        </p:grpSpPr>
        <p:grpSp>
          <p:nvGrpSpPr>
            <p:cNvPr id="104" name=""/>
            <p:cNvGrpSpPr/>
            <p:nvPr/>
          </p:nvGrpSpPr>
          <p:grpSpPr>
            <a:xfrm>
              <a:off x="3429000" y="4571640"/>
              <a:ext cx="2438280" cy="609480"/>
              <a:chOff x="3429000" y="4571640"/>
              <a:chExt cx="2438280" cy="609480"/>
            </a:xfrm>
          </p:grpSpPr>
          <p:sp>
            <p:nvSpPr>
              <p:cNvPr id="105" name=""/>
              <p:cNvSpPr/>
              <p:nvPr/>
            </p:nvSpPr>
            <p:spPr>
              <a:xfrm>
                <a:off x="3429000" y="4571640"/>
                <a:ext cx="243828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3657600" y="4723920"/>
                <a:ext cx="1957320" cy="34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8564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pplication 2</a:t>
                </a:r>
                <a:endPara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419720" y="4267080"/>
              <a:ext cx="45720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6C9-A491-496B-8384-381FA9CE8E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1295280"/>
            <a:ext cx="8305920" cy="1752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N00734_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057400" cy="1631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867280" y="1447920"/>
            <a:ext cx="2590560" cy="1574640"/>
            <a:chOff x="5867280" y="1447920"/>
            <a:chExt cx="2590560" cy="1574640"/>
          </a:xfrm>
        </p:grpSpPr>
        <p:pic>
          <p:nvPicPr>
            <p:cNvPr id="111" name="j0289834" descr=""/>
            <p:cNvPicPr/>
            <p:nvPr/>
          </p:nvPicPr>
          <p:blipFill>
            <a:blip r:embed="rId2"/>
            <a:stretch/>
          </p:blipFill>
          <p:spPr>
            <a:xfrm>
              <a:off x="6685200" y="1447920"/>
              <a:ext cx="177264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7280" y="2028960"/>
              <a:ext cx="644760" cy="487440"/>
            </a:xfrm>
            <a:prstGeom prst="leftArrow">
              <a:avLst>
                <a:gd name="adj1" fmla="val 50000"/>
                <a:gd name="adj2" fmla="val 3306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00400" y="1447920"/>
            <a:ext cx="2438280" cy="1592280"/>
            <a:chOff x="3200400" y="1447920"/>
            <a:chExt cx="2438280" cy="1592280"/>
          </a:xfrm>
        </p:grpSpPr>
        <p:pic>
          <p:nvPicPr>
            <p:cNvPr id="114" name="j0174022" descr=""/>
            <p:cNvPicPr/>
            <p:nvPr/>
          </p:nvPicPr>
          <p:blipFill>
            <a:blip r:embed="rId3"/>
            <a:stretch/>
          </p:blipFill>
          <p:spPr>
            <a:xfrm>
              <a:off x="4087800" y="1447920"/>
              <a:ext cx="155088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00400" y="2023920"/>
              <a:ext cx="720720" cy="511200"/>
            </a:xfrm>
            <a:prstGeom prst="leftArrow">
              <a:avLst>
                <a:gd name="adj1" fmla="val 50000"/>
                <a:gd name="adj2" fmla="val 3524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838080" y="762120"/>
            <a:ext cx="8077320" cy="47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vironment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3429000"/>
            <a:ext cx="7924320" cy="838080"/>
            <a:chOff x="457200" y="3429000"/>
            <a:chExt cx="7924320" cy="838080"/>
          </a:xfrm>
        </p:grpSpPr>
        <p:sp>
          <p:nvSpPr>
            <p:cNvPr id="118" name=""/>
            <p:cNvSpPr/>
            <p:nvPr/>
          </p:nvSpPr>
          <p:spPr>
            <a:xfrm>
              <a:off x="457200" y="3429000"/>
              <a:ext cx="7924320" cy="8380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156320" y="3608280"/>
              <a:ext cx="6603840" cy="47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534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Operating System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H="1" flipV="1">
            <a:off x="8534520" y="1828080"/>
            <a:ext cx="380880" cy="2133720"/>
          </a:xfrm>
          <a:custGeom>
            <a:avLst/>
            <a:gdLst>
              <a:gd name="textAreaLeft" fmla="*/ 50760 w 380880"/>
              <a:gd name="textAreaRight" fmla="*/ 330120 w 380880"/>
              <a:gd name="textAreaTop" fmla="*/ 397800 h 2133720"/>
              <a:gd name="textAreaBottom" fmla="*/ 15667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57" stAng="-5400000" swAng="-5400000"/>
                <a:lnTo>
                  <a:pt x="0" y="11829"/>
                </a:lnTo>
                <a:arcTo wR="21600" hR="8057" stAng="10800000" swAng="-1116350"/>
                <a:lnTo>
                  <a:pt x="5565" y="18941"/>
                </a:lnTo>
                <a:lnTo>
                  <a:pt x="21600" y="18000"/>
                </a:lnTo>
                <a:lnTo>
                  <a:pt x="5565" y="11741"/>
                </a:lnTo>
                <a:lnTo>
                  <a:pt x="5565" y="13455"/>
                </a:lnTo>
                <a:arcTo wR="21600" hR="8057" stAng="9683650" swAng="808432"/>
                <a:lnTo>
                  <a:pt x="600" y="9943"/>
                </a:lnTo>
                <a:arcTo wR="21600" hR="8057" stAng="-10492082" swAng="5092082"/>
                <a:close/>
              </a:path>
              <a:path fill="darkenLess" w="21600" h="21600">
                <a:moveTo>
                  <a:pt x="21600" y="0"/>
                </a:moveTo>
                <a:arcTo wR="21600" hR="8057" stAng="-5400000" swAng="-5400000"/>
                <a:lnTo>
                  <a:pt x="0" y="8057"/>
                </a:lnTo>
                <a:arcTo wR="21600" hR="8057" stAng="10800000" swAng="-307918"/>
                <a:lnTo>
                  <a:pt x="600" y="9943"/>
                </a:lnTo>
                <a:arcTo wR="21600" hR="8057" stAng="-10492082" swAng="509208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4267080"/>
            <a:ext cx="2438280" cy="914040"/>
            <a:chOff x="457200" y="4267080"/>
            <a:chExt cx="2438280" cy="914040"/>
          </a:xfrm>
        </p:grpSpPr>
        <p:sp>
          <p:nvSpPr>
            <p:cNvPr id="122" name=""/>
            <p:cNvSpPr/>
            <p:nvPr/>
          </p:nvSpPr>
          <p:spPr>
            <a:xfrm>
              <a:off x="457200" y="4571640"/>
              <a:ext cx="2438280" cy="6094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85800" y="4724280"/>
              <a:ext cx="1957320" cy="34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8564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pplication 1</a:t>
              </a:r>
              <a:endPara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4267080"/>
              <a:ext cx="45720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248520" y="4267080"/>
            <a:ext cx="2438280" cy="838080"/>
            <a:chOff x="6248520" y="4267080"/>
            <a:chExt cx="2438280" cy="838080"/>
          </a:xfrm>
        </p:grpSpPr>
        <p:grpSp>
          <p:nvGrpSpPr>
            <p:cNvPr id="126" name=""/>
            <p:cNvGrpSpPr/>
            <p:nvPr/>
          </p:nvGrpSpPr>
          <p:grpSpPr>
            <a:xfrm>
              <a:off x="6248520" y="4546440"/>
              <a:ext cx="2438280" cy="558720"/>
              <a:chOff x="6248520" y="4546440"/>
              <a:chExt cx="2438280" cy="558720"/>
            </a:xfrm>
          </p:grpSpPr>
          <p:sp>
            <p:nvSpPr>
              <p:cNvPr id="127" name=""/>
              <p:cNvSpPr/>
              <p:nvPr/>
            </p:nvSpPr>
            <p:spPr>
              <a:xfrm>
                <a:off x="6248520" y="4546440"/>
                <a:ext cx="2438280" cy="558720"/>
              </a:xfrm>
              <a:prstGeom prst="roundRect">
                <a:avLst>
                  <a:gd name="adj" fmla="val 16667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6477120" y="4686120"/>
                <a:ext cx="1957320" cy="320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8564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pplication 3</a:t>
                </a:r>
                <a:endPara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238880" y="4267080"/>
              <a:ext cx="457200" cy="279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4267080"/>
            <a:ext cx="2438280" cy="914040"/>
            <a:chOff x="3429000" y="4267080"/>
            <a:chExt cx="2438280" cy="914040"/>
          </a:xfrm>
        </p:grpSpPr>
        <p:grpSp>
          <p:nvGrpSpPr>
            <p:cNvPr id="131" name=""/>
            <p:cNvGrpSpPr/>
            <p:nvPr/>
          </p:nvGrpSpPr>
          <p:grpSpPr>
            <a:xfrm>
              <a:off x="3429000" y="4571640"/>
              <a:ext cx="2438280" cy="609480"/>
              <a:chOff x="3429000" y="4571640"/>
              <a:chExt cx="24382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3429000" y="4571640"/>
                <a:ext cx="243828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3657600" y="4723920"/>
                <a:ext cx="1957320" cy="34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8564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pplication 2</a:t>
                </a:r>
                <a:endPara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419720" y="4267080"/>
              <a:ext cx="45720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1447920"/>
            <a:ext cx="8534520" cy="3886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0289113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j0289113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j0289113" descr=""/>
          <p:cNvPicPr/>
          <p:nvPr/>
        </p:nvPicPr>
        <p:blipFill>
          <a:blip r:embed="rId6"/>
          <a:stretch/>
        </p:blipFill>
        <p:spPr>
          <a:xfrm>
            <a:off x="2514600" y="5257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j0289113" descr=""/>
          <p:cNvPicPr/>
          <p:nvPr/>
        </p:nvPicPr>
        <p:blipFill>
          <a:blip r:embed="rId7"/>
          <a:stretch/>
        </p:blipFill>
        <p:spPr>
          <a:xfrm>
            <a:off x="3581280" y="5257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j0289113" descr=""/>
          <p:cNvPicPr/>
          <p:nvPr/>
        </p:nvPicPr>
        <p:blipFill>
          <a:blip r:embed="rId8"/>
          <a:stretch/>
        </p:blipFill>
        <p:spPr>
          <a:xfrm>
            <a:off x="4724280" y="5257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j0289113" descr=""/>
          <p:cNvPicPr/>
          <p:nvPr/>
        </p:nvPicPr>
        <p:blipFill>
          <a:blip r:embed="rId9"/>
          <a:stretch/>
        </p:blipFill>
        <p:spPr>
          <a:xfrm>
            <a:off x="5791320" y="5257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j0289113" descr=""/>
          <p:cNvPicPr/>
          <p:nvPr/>
        </p:nvPicPr>
        <p:blipFill>
          <a:blip r:embed="rId10"/>
          <a:stretch/>
        </p:blipFill>
        <p:spPr>
          <a:xfrm>
            <a:off x="7924680" y="5257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j0289113" descr=""/>
          <p:cNvPicPr/>
          <p:nvPr/>
        </p:nvPicPr>
        <p:blipFill>
          <a:blip r:embed="rId11"/>
          <a:stretch/>
        </p:blipFill>
        <p:spPr>
          <a:xfrm>
            <a:off x="6858000" y="525780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0D3-CE23-4468-8196-870B41E66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1752840" cy="1389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5943600" cy="3757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152280"/>
            <a:ext cx="8458200" cy="5715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24080" y="4191120"/>
            <a:ext cx="1524240" cy="1143000"/>
            <a:chOff x="3124080" y="4191120"/>
            <a:chExt cx="1524240" cy="1143000"/>
          </a:xfrm>
        </p:grpSpPr>
        <p:sp>
          <p:nvSpPr>
            <p:cNvPr id="148" name=""/>
            <p:cNvSpPr/>
            <p:nvPr/>
          </p:nvSpPr>
          <p:spPr>
            <a:xfrm>
              <a:off x="3178080" y="4314960"/>
              <a:ext cx="1470240" cy="40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TN00734_" descr=""/>
            <p:cNvPicPr/>
            <p:nvPr/>
          </p:nvPicPr>
          <p:blipFill>
            <a:blip r:embed="rId3"/>
            <a:stretch/>
          </p:blipFill>
          <p:spPr>
            <a:xfrm>
              <a:off x="3244680" y="4349880"/>
              <a:ext cx="365400" cy="37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4108320" y="4349880"/>
              <a:ext cx="458640" cy="363240"/>
              <a:chOff x="4108320" y="4349880"/>
              <a:chExt cx="458640" cy="363240"/>
            </a:xfrm>
          </p:grpSpPr>
          <p:pic>
            <p:nvPicPr>
              <p:cNvPr id="151" name="j0289834" descr=""/>
              <p:cNvPicPr/>
              <p:nvPr/>
            </p:nvPicPr>
            <p:blipFill>
              <a:blip r:embed="rId4"/>
              <a:stretch/>
            </p:blipFill>
            <p:spPr>
              <a:xfrm>
                <a:off x="4253040" y="4349880"/>
                <a:ext cx="313920" cy="36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108320" y="4483800"/>
                <a:ext cx="114120" cy="112320"/>
              </a:xfrm>
              <a:prstGeom prst="leftArrow">
                <a:avLst>
                  <a:gd name="adj1" fmla="val 50000"/>
                  <a:gd name="adj2" fmla="val 25401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37080" y="4349880"/>
              <a:ext cx="431640" cy="366480"/>
              <a:chOff x="3637080" y="4349880"/>
              <a:chExt cx="431640" cy="366480"/>
            </a:xfrm>
          </p:grpSpPr>
          <p:pic>
            <p:nvPicPr>
              <p:cNvPr id="154" name="j0174022" descr=""/>
              <p:cNvPicPr/>
              <p:nvPr/>
            </p:nvPicPr>
            <p:blipFill>
              <a:blip r:embed="rId5"/>
              <a:stretch/>
            </p:blipFill>
            <p:spPr>
              <a:xfrm>
                <a:off x="3794040" y="4349880"/>
                <a:ext cx="274680" cy="36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3637080" y="4482360"/>
                <a:ext cx="127440" cy="117720"/>
              </a:xfrm>
              <a:prstGeom prst="leftArrow">
                <a:avLst>
                  <a:gd name="adj1" fmla="val 50000"/>
                  <a:gd name="adj2" fmla="val 27064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 txBox="1"/>
            <p:nvPr/>
          </p:nvSpPr>
          <p:spPr>
            <a:xfrm>
              <a:off x="3218040" y="4191120"/>
              <a:ext cx="1430280" cy="109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Environment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151080" y="4807080"/>
              <a:ext cx="1403280" cy="193680"/>
              <a:chOff x="3151080" y="4807080"/>
              <a:chExt cx="1403280" cy="193680"/>
            </a:xfrm>
          </p:grpSpPr>
          <p:sp>
            <p:nvSpPr>
              <p:cNvPr id="158" name=""/>
              <p:cNvSpPr/>
              <p:nvPr/>
            </p:nvSpPr>
            <p:spPr>
              <a:xfrm>
                <a:off x="3151080" y="4807080"/>
                <a:ext cx="1403280" cy="193680"/>
              </a:xfrm>
              <a:prstGeom prst="flowChartAlternateProcess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3274920" y="4848480"/>
                <a:ext cx="1169640" cy="109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1534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Operating System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 flipV="1">
              <a:off x="4581360" y="4436280"/>
              <a:ext cx="66960" cy="492120"/>
            </a:xfrm>
            <a:custGeom>
              <a:avLst/>
              <a:gdLst>
                <a:gd name="textAreaLeft" fmla="*/ 9000 w 66960"/>
                <a:gd name="textAreaRight" fmla="*/ 57960 w 66960"/>
                <a:gd name="textAreaTop" fmla="*/ 91800 h 492120"/>
                <a:gd name="textAreaBottom" fmla="*/ 36144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57" stAng="-5400000" swAng="-5400000"/>
                  <a:lnTo>
                    <a:pt x="0" y="11829"/>
                  </a:lnTo>
                  <a:arcTo wR="21600" hR="8057" stAng="10800000" swAng="-1116350"/>
                  <a:lnTo>
                    <a:pt x="5565" y="18941"/>
                  </a:lnTo>
                  <a:lnTo>
                    <a:pt x="21600" y="18000"/>
                  </a:lnTo>
                  <a:lnTo>
                    <a:pt x="5565" y="11741"/>
                  </a:lnTo>
                  <a:lnTo>
                    <a:pt x="5565" y="13455"/>
                  </a:lnTo>
                  <a:arcTo wR="21600" hR="8057" stAng="9683650" swAng="808432"/>
                  <a:lnTo>
                    <a:pt x="600" y="9943"/>
                  </a:lnTo>
                  <a:arcTo wR="21600" hR="8057" stAng="-10492082" swAng="5092082"/>
                  <a:close/>
                </a:path>
                <a:path fill="darkenLess" w="21600" h="21600">
                  <a:moveTo>
                    <a:pt x="21600" y="0"/>
                  </a:moveTo>
                  <a:arcTo wR="21600" hR="8057" stAng="-5400000" swAng="-5400000"/>
                  <a:lnTo>
                    <a:pt x="0" y="8057"/>
                  </a:lnTo>
                  <a:arcTo wR="21600" hR="8057" stAng="10800000" swAng="-307918"/>
                  <a:lnTo>
                    <a:pt x="600" y="9943"/>
                  </a:lnTo>
                  <a:arcTo wR="21600" hR="8057" stAng="-10492082" swAng="5092082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151080" y="5000760"/>
              <a:ext cx="432000" cy="209520"/>
              <a:chOff x="3151080" y="5000760"/>
              <a:chExt cx="432000" cy="209520"/>
            </a:xfrm>
          </p:grpSpPr>
          <p:sp>
            <p:nvSpPr>
              <p:cNvPr id="162" name=""/>
              <p:cNvSpPr/>
              <p:nvPr/>
            </p:nvSpPr>
            <p:spPr>
              <a:xfrm>
                <a:off x="3151080" y="5070600"/>
                <a:ext cx="432000" cy="139680"/>
              </a:xfrm>
              <a:prstGeom prst="roundRect">
                <a:avLst>
                  <a:gd name="adj" fmla="val 16667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3191400" y="5105520"/>
                <a:ext cx="346680" cy="79920"/>
              </a:xfrm>
              <a:prstGeom prst="rect">
                <a:avLst/>
              </a:prstGeom>
            </p:spPr>
            <p:txBody>
              <a:bodyPr wrap="none" lIns="90000" rIns="90000" tIns="33480" bIns="33480" anchor="t" anchorCtr="1">
                <a:prstTxWarp prst="textCanUp">
                  <a:avLst>
                    <a:gd name="adj" fmla="val 8564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pplication 1</a:t>
                </a:r>
                <a:endPara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26400" y="5000760"/>
                <a:ext cx="81000" cy="6984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176720" y="5000760"/>
              <a:ext cx="431640" cy="191520"/>
              <a:chOff x="4176720" y="5000760"/>
              <a:chExt cx="431640" cy="19152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176720" y="5064480"/>
                <a:ext cx="431640" cy="127800"/>
                <a:chOff x="4176720" y="5064480"/>
                <a:chExt cx="431640" cy="1278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176720" y="5064480"/>
                  <a:ext cx="431640" cy="12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 txBox="1"/>
                <p:nvPr/>
              </p:nvSpPr>
              <p:spPr>
                <a:xfrm>
                  <a:off x="4217040" y="5096160"/>
                  <a:ext cx="346680" cy="73080"/>
                </a:xfrm>
                <a:prstGeom prst="rect">
                  <a:avLst/>
                </a:prstGeom>
              </p:spPr>
              <p:txBody>
                <a:bodyPr wrap="none" lIns="90000" rIns="90000" tIns="26640" bIns="26640" anchor="t" anchorCtr="1">
                  <a:prstTxWarp prst="textCanUp">
                    <a:avLst>
                      <a:gd name="adj" fmla="val 8564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9080">
                        <a:solidFill>
                          <a:srgbClr val="ffff00"/>
                        </a:solidFill>
                        <a:miter/>
                      </a:ln>
                      <a:solidFill>
                        <a:srgbClr val="339966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Impact"/>
                    </a:rPr>
                    <a:t>Application 3</a:t>
                  </a:r>
                  <a:endPara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352040" y="5000760"/>
                <a:ext cx="80640" cy="637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676680" y="5000760"/>
              <a:ext cx="431640" cy="209520"/>
              <a:chOff x="3676680" y="5000760"/>
              <a:chExt cx="431640" cy="209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676680" y="5070600"/>
                <a:ext cx="431640" cy="139680"/>
                <a:chOff x="3676680" y="5070600"/>
                <a:chExt cx="431640" cy="139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676680" y="5070600"/>
                  <a:ext cx="431640" cy="139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 txBox="1"/>
                <p:nvPr/>
              </p:nvSpPr>
              <p:spPr>
                <a:xfrm>
                  <a:off x="3717000" y="5105520"/>
                  <a:ext cx="346680" cy="79920"/>
                </a:xfrm>
                <a:prstGeom prst="rect">
                  <a:avLst/>
                </a:prstGeom>
              </p:spPr>
              <p:txBody>
                <a:bodyPr wrap="none" lIns="90000" rIns="90000" tIns="33480" bIns="33480" anchor="t" anchorCtr="1">
                  <a:prstTxWarp prst="textCanUp">
                    <a:avLst>
                      <a:gd name="adj" fmla="val 8564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9080">
                        <a:solidFill>
                          <a:srgbClr val="ffff00"/>
                        </a:solidFill>
                        <a:miter/>
                      </a:ln>
                      <a:solidFill>
                        <a:srgbClr val="339966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Impact"/>
                    </a:rPr>
                    <a:t>Application 2</a:t>
                  </a:r>
                  <a:endPara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3852000" y="5000760"/>
                <a:ext cx="80640" cy="6984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j0289113" descr=""/>
            <p:cNvPicPr/>
            <p:nvPr/>
          </p:nvPicPr>
          <p:blipFill>
            <a:blip r:embed="rId6"/>
            <a:stretch/>
          </p:blipFill>
          <p:spPr>
            <a:xfrm>
              <a:off x="3124080" y="5229360"/>
              <a:ext cx="162000" cy="1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j0289113" descr=""/>
            <p:cNvPicPr/>
            <p:nvPr/>
          </p:nvPicPr>
          <p:blipFill>
            <a:blip r:embed="rId7"/>
            <a:stretch/>
          </p:blipFill>
          <p:spPr>
            <a:xfrm>
              <a:off x="3325680" y="5229360"/>
              <a:ext cx="162000" cy="1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j0289113" descr=""/>
            <p:cNvPicPr/>
            <p:nvPr/>
          </p:nvPicPr>
          <p:blipFill>
            <a:blip r:embed="rId8"/>
            <a:stretch/>
          </p:blipFill>
          <p:spPr>
            <a:xfrm>
              <a:off x="3514680" y="5229360"/>
              <a:ext cx="162000" cy="1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j0289113" descr=""/>
            <p:cNvPicPr/>
            <p:nvPr/>
          </p:nvPicPr>
          <p:blipFill>
            <a:blip r:embed="rId9"/>
            <a:stretch/>
          </p:blipFill>
          <p:spPr>
            <a:xfrm>
              <a:off x="3703680" y="5229360"/>
              <a:ext cx="162000" cy="1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j0289113" descr=""/>
            <p:cNvPicPr/>
            <p:nvPr/>
          </p:nvPicPr>
          <p:blipFill>
            <a:blip r:embed="rId10"/>
            <a:stretch/>
          </p:blipFill>
          <p:spPr>
            <a:xfrm>
              <a:off x="3906720" y="5229360"/>
              <a:ext cx="162000" cy="1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j0289113" descr=""/>
            <p:cNvPicPr/>
            <p:nvPr/>
          </p:nvPicPr>
          <p:blipFill>
            <a:blip r:embed="rId11"/>
            <a:stretch/>
          </p:blipFill>
          <p:spPr>
            <a:xfrm>
              <a:off x="4095720" y="5229360"/>
              <a:ext cx="162000" cy="1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j0289113" descr=""/>
            <p:cNvPicPr/>
            <p:nvPr/>
          </p:nvPicPr>
          <p:blipFill>
            <a:blip r:embed="rId12"/>
            <a:stretch/>
          </p:blipFill>
          <p:spPr>
            <a:xfrm>
              <a:off x="4473720" y="5229360"/>
              <a:ext cx="161640" cy="1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j0289113" descr=""/>
            <p:cNvPicPr/>
            <p:nvPr/>
          </p:nvPicPr>
          <p:blipFill>
            <a:blip r:embed="rId13"/>
            <a:stretch/>
          </p:blipFill>
          <p:spPr>
            <a:xfrm>
              <a:off x="4284720" y="5229360"/>
              <a:ext cx="162000" cy="1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4599000" y="755640"/>
            <a:ext cx="2792520" cy="72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0" y="228600"/>
            <a:ext cx="2716200" cy="960480"/>
            <a:chOff x="4572000" y="228600"/>
            <a:chExt cx="2716200" cy="960480"/>
          </a:xfrm>
        </p:grpSpPr>
        <p:sp>
          <p:nvSpPr>
            <p:cNvPr id="185" name=""/>
            <p:cNvSpPr txBox="1"/>
            <p:nvPr/>
          </p:nvSpPr>
          <p:spPr>
            <a:xfrm>
              <a:off x="4572000" y="990720"/>
              <a:ext cx="2716200" cy="198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Environment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228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High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371600" y="2971800"/>
            <a:ext cx="1523880" cy="762120"/>
            <a:chOff x="1371600" y="2971800"/>
            <a:chExt cx="1523880" cy="762120"/>
          </a:xfrm>
        </p:grpSpPr>
        <p:sp>
          <p:nvSpPr>
            <p:cNvPr id="188" name=""/>
            <p:cNvSpPr/>
            <p:nvPr/>
          </p:nvSpPr>
          <p:spPr>
            <a:xfrm>
              <a:off x="1425600" y="3054240"/>
              <a:ext cx="1469880" cy="270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TN00734_" descr=""/>
            <p:cNvPicPr/>
            <p:nvPr/>
          </p:nvPicPr>
          <p:blipFill>
            <a:blip r:embed="rId14"/>
            <a:stretch/>
          </p:blipFill>
          <p:spPr>
            <a:xfrm>
              <a:off x="1492200" y="3076560"/>
              <a:ext cx="365040" cy="25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"/>
            <p:cNvGrpSpPr/>
            <p:nvPr/>
          </p:nvGrpSpPr>
          <p:grpSpPr>
            <a:xfrm>
              <a:off x="2355840" y="3076560"/>
              <a:ext cx="458640" cy="243000"/>
              <a:chOff x="2355840" y="3076560"/>
              <a:chExt cx="458640" cy="243000"/>
            </a:xfrm>
          </p:grpSpPr>
          <p:pic>
            <p:nvPicPr>
              <p:cNvPr id="191" name="j028983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00560" y="3076560"/>
                <a:ext cx="31392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2355840" y="3166200"/>
                <a:ext cx="114120" cy="75240"/>
              </a:xfrm>
              <a:prstGeom prst="leftArrow">
                <a:avLst>
                  <a:gd name="adj1" fmla="val 50000"/>
                  <a:gd name="adj2" fmla="val 37919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884240" y="3076560"/>
              <a:ext cx="432000" cy="246240"/>
              <a:chOff x="1884240" y="3076560"/>
              <a:chExt cx="432000" cy="246240"/>
            </a:xfrm>
          </p:grpSpPr>
          <p:pic>
            <p:nvPicPr>
              <p:cNvPr id="194" name="j0174022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41560" y="3076560"/>
                <a:ext cx="274680" cy="24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1884240" y="3165480"/>
                <a:ext cx="127440" cy="78840"/>
              </a:xfrm>
              <a:prstGeom prst="leftArrow">
                <a:avLst>
                  <a:gd name="adj1" fmla="val 50000"/>
                  <a:gd name="adj2" fmla="val 40411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 txBox="1"/>
            <p:nvPr/>
          </p:nvSpPr>
          <p:spPr>
            <a:xfrm>
              <a:off x="1465200" y="2971800"/>
              <a:ext cx="1430280" cy="73080"/>
            </a:xfrm>
            <a:prstGeom prst="rect">
              <a:avLst/>
            </a:prstGeom>
          </p:spPr>
          <p:txBody>
            <a:bodyPr wrap="none" fromWordArt="1" lIns="90000" rIns="90000" tIns="26640" bIns="2664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Environment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398600" y="3381480"/>
              <a:ext cx="1403280" cy="129960"/>
              <a:chOff x="1398600" y="3381480"/>
              <a:chExt cx="1403280" cy="129960"/>
            </a:xfrm>
          </p:grpSpPr>
          <p:sp>
            <p:nvSpPr>
              <p:cNvPr id="198" name=""/>
              <p:cNvSpPr/>
              <p:nvPr/>
            </p:nvSpPr>
            <p:spPr>
              <a:xfrm>
                <a:off x="1398600" y="3381480"/>
                <a:ext cx="1403280" cy="129960"/>
              </a:xfrm>
              <a:prstGeom prst="flowChartAlternateProcess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1522440" y="3409200"/>
                <a:ext cx="116964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SlantUp">
                  <a:avLst>
                    <a:gd name="adj" fmla="val 1534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Operating System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flipH="1" flipV="1">
              <a:off x="2828160" y="3134520"/>
              <a:ext cx="66600" cy="328680"/>
            </a:xfrm>
            <a:custGeom>
              <a:avLst/>
              <a:gdLst>
                <a:gd name="textAreaLeft" fmla="*/ 8640 w 66600"/>
                <a:gd name="textAreaRight" fmla="*/ 57960 w 66600"/>
                <a:gd name="textAreaTop" fmla="*/ 61200 h 328680"/>
                <a:gd name="textAreaBottom" fmla="*/ 241560 h 3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57" stAng="-5400000" swAng="-5400000"/>
                  <a:lnTo>
                    <a:pt x="0" y="11829"/>
                  </a:lnTo>
                  <a:arcTo wR="21600" hR="8057" stAng="10800000" swAng="-1116350"/>
                  <a:lnTo>
                    <a:pt x="5565" y="18941"/>
                  </a:lnTo>
                  <a:lnTo>
                    <a:pt x="21600" y="18000"/>
                  </a:lnTo>
                  <a:lnTo>
                    <a:pt x="5565" y="11741"/>
                  </a:lnTo>
                  <a:lnTo>
                    <a:pt x="5565" y="13455"/>
                  </a:lnTo>
                  <a:arcTo wR="21600" hR="8057" stAng="9683650" swAng="808432"/>
                  <a:lnTo>
                    <a:pt x="600" y="9943"/>
                  </a:lnTo>
                  <a:arcTo wR="21600" hR="8057" stAng="-10492082" swAng="5092082"/>
                  <a:close/>
                </a:path>
                <a:path fill="darkenLess" w="21600" h="21600">
                  <a:moveTo>
                    <a:pt x="21600" y="0"/>
                  </a:moveTo>
                  <a:arcTo wR="21600" hR="8057" stAng="-5400000" swAng="-5400000"/>
                  <a:lnTo>
                    <a:pt x="0" y="8057"/>
                  </a:lnTo>
                  <a:arcTo wR="21600" hR="8057" stAng="10800000" swAng="-307918"/>
                  <a:lnTo>
                    <a:pt x="600" y="9943"/>
                  </a:lnTo>
                  <a:arcTo wR="21600" hR="8057" stAng="-10492082" swAng="5092082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398600" y="3511440"/>
              <a:ext cx="431640" cy="139680"/>
              <a:chOff x="1398600" y="3511440"/>
              <a:chExt cx="431640" cy="139680"/>
            </a:xfrm>
          </p:grpSpPr>
          <p:sp>
            <p:nvSpPr>
              <p:cNvPr id="202" name=""/>
              <p:cNvSpPr/>
              <p:nvPr/>
            </p:nvSpPr>
            <p:spPr>
              <a:xfrm>
                <a:off x="1398600" y="3557880"/>
                <a:ext cx="431640" cy="93240"/>
              </a:xfrm>
              <a:prstGeom prst="roundRect">
                <a:avLst>
                  <a:gd name="adj" fmla="val 16667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1438920" y="3581280"/>
                <a:ext cx="346680" cy="53280"/>
              </a:xfrm>
              <a:prstGeom prst="rect">
                <a:avLst/>
              </a:prstGeom>
            </p:spPr>
            <p:txBody>
              <a:bodyPr wrap="none" lIns="90000" rIns="90000" tIns="6840" bIns="6840" anchor="t" anchorCtr="1">
                <a:prstTxWarp prst="textCanUp">
                  <a:avLst>
                    <a:gd name="adj" fmla="val 8564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pplication 1</a:t>
                </a:r>
                <a:endPara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73920" y="3511440"/>
                <a:ext cx="80640" cy="4644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424240" y="3511440"/>
              <a:ext cx="431640" cy="128520"/>
              <a:chOff x="2424240" y="3511440"/>
              <a:chExt cx="431640" cy="12852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2424240" y="3554280"/>
                <a:ext cx="431640" cy="85680"/>
                <a:chOff x="2424240" y="3554280"/>
                <a:chExt cx="431640" cy="856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424240" y="3554280"/>
                  <a:ext cx="431640" cy="85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 txBox="1"/>
                <p:nvPr/>
              </p:nvSpPr>
              <p:spPr>
                <a:xfrm>
                  <a:off x="2464560" y="3575520"/>
                  <a:ext cx="346680" cy="48960"/>
                </a:xfrm>
                <a:prstGeom prst="rect">
                  <a:avLst/>
                </a:prstGeom>
              </p:spPr>
              <p:txBody>
                <a:bodyPr wrap="none" lIns="90000" rIns="90000" tIns="2520" bIns="2520" anchor="t" anchorCtr="1">
                  <a:prstTxWarp prst="textCanUp">
                    <a:avLst>
                      <a:gd name="adj" fmla="val 8564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9080">
                        <a:solidFill>
                          <a:srgbClr val="ffff00"/>
                        </a:solidFill>
                        <a:miter/>
                      </a:ln>
                      <a:solidFill>
                        <a:srgbClr val="339966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Impact"/>
                    </a:rPr>
                    <a:t>Application 3</a:t>
                  </a:r>
                  <a:endPara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2599560" y="3511440"/>
                <a:ext cx="80640" cy="4284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924200" y="3511440"/>
              <a:ext cx="431640" cy="139680"/>
              <a:chOff x="1924200" y="3511440"/>
              <a:chExt cx="431640" cy="13968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1924200" y="3557880"/>
                <a:ext cx="431640" cy="93240"/>
                <a:chOff x="1924200" y="3557880"/>
                <a:chExt cx="431640" cy="93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924200" y="3557880"/>
                  <a:ext cx="431640" cy="93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1964520" y="3580920"/>
                  <a:ext cx="346680" cy="53280"/>
                </a:xfrm>
                <a:prstGeom prst="rect">
                  <a:avLst/>
                </a:prstGeom>
              </p:spPr>
              <p:txBody>
                <a:bodyPr wrap="none" lIns="90000" rIns="90000" tIns="6840" bIns="6840" anchor="t" anchorCtr="1">
                  <a:prstTxWarp prst="textCanUp">
                    <a:avLst>
                      <a:gd name="adj" fmla="val 8564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9080">
                        <a:solidFill>
                          <a:srgbClr val="ffff00"/>
                        </a:solidFill>
                        <a:miter/>
                      </a:ln>
                      <a:solidFill>
                        <a:srgbClr val="339966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Impact"/>
                    </a:rPr>
                    <a:t>Application 2</a:t>
                  </a:r>
                  <a:endPara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2099520" y="3511440"/>
                <a:ext cx="80640" cy="4644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5" name="j0289113" descr=""/>
            <p:cNvPicPr/>
            <p:nvPr/>
          </p:nvPicPr>
          <p:blipFill>
            <a:blip r:embed="rId17"/>
            <a:stretch/>
          </p:blipFill>
          <p:spPr>
            <a:xfrm>
              <a:off x="1371600" y="3664080"/>
              <a:ext cx="16200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j0289113" descr=""/>
            <p:cNvPicPr/>
            <p:nvPr/>
          </p:nvPicPr>
          <p:blipFill>
            <a:blip r:embed="rId18"/>
            <a:stretch/>
          </p:blipFill>
          <p:spPr>
            <a:xfrm>
              <a:off x="1573200" y="3664080"/>
              <a:ext cx="16200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j0289113" descr=""/>
            <p:cNvPicPr/>
            <p:nvPr/>
          </p:nvPicPr>
          <p:blipFill>
            <a:blip r:embed="rId19"/>
            <a:stretch/>
          </p:blipFill>
          <p:spPr>
            <a:xfrm>
              <a:off x="1762200" y="3664080"/>
              <a:ext cx="16200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j0289113" descr=""/>
            <p:cNvPicPr/>
            <p:nvPr/>
          </p:nvPicPr>
          <p:blipFill>
            <a:blip r:embed="rId20"/>
            <a:stretch/>
          </p:blipFill>
          <p:spPr>
            <a:xfrm>
              <a:off x="1951200" y="3664080"/>
              <a:ext cx="16164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j0289113" descr=""/>
            <p:cNvPicPr/>
            <p:nvPr/>
          </p:nvPicPr>
          <p:blipFill>
            <a:blip r:embed="rId21"/>
            <a:stretch/>
          </p:blipFill>
          <p:spPr>
            <a:xfrm>
              <a:off x="2154240" y="3664080"/>
              <a:ext cx="16200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j0289113" descr=""/>
            <p:cNvPicPr/>
            <p:nvPr/>
          </p:nvPicPr>
          <p:blipFill>
            <a:blip r:embed="rId22"/>
            <a:stretch/>
          </p:blipFill>
          <p:spPr>
            <a:xfrm>
              <a:off x="2343240" y="3664080"/>
              <a:ext cx="16200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j0289113" descr=""/>
            <p:cNvPicPr/>
            <p:nvPr/>
          </p:nvPicPr>
          <p:blipFill>
            <a:blip r:embed="rId23"/>
            <a:stretch/>
          </p:blipFill>
          <p:spPr>
            <a:xfrm>
              <a:off x="2720880" y="3664080"/>
              <a:ext cx="162000" cy="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j0289113" descr=""/>
            <p:cNvPicPr/>
            <p:nvPr/>
          </p:nvPicPr>
          <p:blipFill>
            <a:blip r:embed="rId24"/>
            <a:stretch/>
          </p:blipFill>
          <p:spPr>
            <a:xfrm>
              <a:off x="2532240" y="3664080"/>
              <a:ext cx="161640" cy="6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5715000" y="2590920"/>
            <a:ext cx="2286000" cy="1676160"/>
            <a:chOff x="5715000" y="2590920"/>
            <a:chExt cx="2286000" cy="1676160"/>
          </a:xfrm>
        </p:grpSpPr>
        <p:sp>
          <p:nvSpPr>
            <p:cNvPr id="224" name=""/>
            <p:cNvSpPr/>
            <p:nvPr/>
          </p:nvSpPr>
          <p:spPr>
            <a:xfrm>
              <a:off x="5796000" y="2771640"/>
              <a:ext cx="2205000" cy="592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TN00734_" descr=""/>
            <p:cNvPicPr/>
            <p:nvPr/>
          </p:nvPicPr>
          <p:blipFill>
            <a:blip r:embed="rId25"/>
            <a:stretch/>
          </p:blipFill>
          <p:spPr>
            <a:xfrm>
              <a:off x="5897520" y="2822400"/>
              <a:ext cx="546120" cy="55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7191360" y="2822400"/>
              <a:ext cx="689040" cy="533520"/>
              <a:chOff x="7191360" y="2822400"/>
              <a:chExt cx="689040" cy="533520"/>
            </a:xfrm>
          </p:grpSpPr>
          <p:pic>
            <p:nvPicPr>
              <p:cNvPr id="227" name="j0289834" descr=""/>
              <p:cNvPicPr/>
              <p:nvPr/>
            </p:nvPicPr>
            <p:blipFill>
              <a:blip r:embed="rId26"/>
              <a:stretch/>
            </p:blipFill>
            <p:spPr>
              <a:xfrm>
                <a:off x="7408800" y="2822400"/>
                <a:ext cx="471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191360" y="3019320"/>
                <a:ext cx="171360" cy="165240"/>
              </a:xfrm>
              <a:prstGeom prst="leftArrow">
                <a:avLst>
                  <a:gd name="adj1" fmla="val 50000"/>
                  <a:gd name="adj2" fmla="val 25926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83240" y="2822400"/>
              <a:ext cx="647640" cy="540000"/>
              <a:chOff x="6483240" y="2822400"/>
              <a:chExt cx="647640" cy="540000"/>
            </a:xfrm>
          </p:grpSpPr>
          <p:pic>
            <p:nvPicPr>
              <p:cNvPr id="230" name="j0174022" descr=""/>
              <p:cNvPicPr/>
              <p:nvPr/>
            </p:nvPicPr>
            <p:blipFill>
              <a:blip r:embed="rId27"/>
              <a:stretch/>
            </p:blipFill>
            <p:spPr>
              <a:xfrm>
                <a:off x="6719040" y="2822400"/>
                <a:ext cx="411840" cy="5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6483240" y="3017520"/>
                <a:ext cx="191160" cy="173160"/>
              </a:xfrm>
              <a:prstGeom prst="leftArrow">
                <a:avLst>
                  <a:gd name="adj1" fmla="val 50000"/>
                  <a:gd name="adj2" fmla="val 27599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 txBox="1"/>
            <p:nvPr/>
          </p:nvSpPr>
          <p:spPr>
            <a:xfrm>
              <a:off x="5856120" y="2590920"/>
              <a:ext cx="2144880" cy="161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Environment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754600" y="3494160"/>
              <a:ext cx="2105280" cy="282600"/>
              <a:chOff x="5754600" y="3494160"/>
              <a:chExt cx="2105280" cy="282600"/>
            </a:xfrm>
          </p:grpSpPr>
          <p:sp>
            <p:nvSpPr>
              <p:cNvPr id="234" name=""/>
              <p:cNvSpPr/>
              <p:nvPr/>
            </p:nvSpPr>
            <p:spPr>
              <a:xfrm>
                <a:off x="5754600" y="3494160"/>
                <a:ext cx="2105280" cy="282600"/>
              </a:xfrm>
              <a:prstGeom prst="flowChartAlternateProcess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5940360" y="3554640"/>
                <a:ext cx="1754640" cy="159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1534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Operating System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H="1" flipV="1">
              <a:off x="7899480" y="2951280"/>
              <a:ext cx="101520" cy="722160"/>
            </a:xfrm>
            <a:custGeom>
              <a:avLst/>
              <a:gdLst>
                <a:gd name="textAreaLeft" fmla="*/ 13320 w 101520"/>
                <a:gd name="textAreaRight" fmla="*/ 88200 w 101520"/>
                <a:gd name="textAreaTop" fmla="*/ 135000 h 722160"/>
                <a:gd name="textAreaBottom" fmla="*/ 530640 h 72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57" stAng="-5400000" swAng="-5400000"/>
                  <a:lnTo>
                    <a:pt x="0" y="11829"/>
                  </a:lnTo>
                  <a:arcTo wR="21600" hR="8057" stAng="10800000" swAng="-1116350"/>
                  <a:lnTo>
                    <a:pt x="5565" y="18941"/>
                  </a:lnTo>
                  <a:lnTo>
                    <a:pt x="21600" y="18000"/>
                  </a:lnTo>
                  <a:lnTo>
                    <a:pt x="5565" y="11741"/>
                  </a:lnTo>
                  <a:lnTo>
                    <a:pt x="5565" y="13455"/>
                  </a:lnTo>
                  <a:arcTo wR="21600" hR="8057" stAng="9683650" swAng="808432"/>
                  <a:lnTo>
                    <a:pt x="600" y="9943"/>
                  </a:lnTo>
                  <a:arcTo wR="21600" hR="8057" stAng="-10492082" swAng="5092082"/>
                  <a:close/>
                </a:path>
                <a:path fill="darkenLess" w="21600" h="21600">
                  <a:moveTo>
                    <a:pt x="21600" y="0"/>
                  </a:moveTo>
                  <a:arcTo wR="21600" hR="8057" stAng="-5400000" swAng="-5400000"/>
                  <a:lnTo>
                    <a:pt x="0" y="8057"/>
                  </a:lnTo>
                  <a:arcTo wR="21600" hR="8057" stAng="10800000" swAng="-307918"/>
                  <a:lnTo>
                    <a:pt x="600" y="9943"/>
                  </a:lnTo>
                  <a:arcTo wR="21600" hR="8057" stAng="-10492082" swAng="5092082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754600" y="3776760"/>
              <a:ext cx="647640" cy="309240"/>
              <a:chOff x="5754600" y="3776760"/>
              <a:chExt cx="647640" cy="309240"/>
            </a:xfrm>
          </p:grpSpPr>
          <p:sp>
            <p:nvSpPr>
              <p:cNvPr id="238" name=""/>
              <p:cNvSpPr/>
              <p:nvPr/>
            </p:nvSpPr>
            <p:spPr>
              <a:xfrm>
                <a:off x="5754600" y="3879720"/>
                <a:ext cx="647640" cy="206280"/>
              </a:xfrm>
              <a:prstGeom prst="roundRect">
                <a:avLst>
                  <a:gd name="adj" fmla="val 16667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5815080" y="3931560"/>
                <a:ext cx="519840" cy="11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8564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pplication 1</a:t>
                </a:r>
                <a:endPara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17760" y="3776760"/>
                <a:ext cx="121320" cy="1029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292880" y="3776760"/>
              <a:ext cx="647640" cy="284040"/>
              <a:chOff x="7292880" y="3776760"/>
              <a:chExt cx="647640" cy="2840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7292880" y="3871440"/>
                <a:ext cx="647640" cy="189360"/>
                <a:chOff x="7292880" y="3871440"/>
                <a:chExt cx="647640" cy="189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292880" y="3871440"/>
                  <a:ext cx="647640" cy="189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7353360" y="3918600"/>
                  <a:ext cx="519840" cy="108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Up">
                    <a:avLst>
                      <a:gd name="adj" fmla="val 8564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9080">
                        <a:solidFill>
                          <a:srgbClr val="ffff00"/>
                        </a:solidFill>
                        <a:miter/>
                      </a:ln>
                      <a:solidFill>
                        <a:srgbClr val="339966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Impact"/>
                    </a:rPr>
                    <a:t>Application 3</a:t>
                  </a:r>
                  <a:endPara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7556040" y="3776760"/>
                <a:ext cx="121320" cy="946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543720" y="3776760"/>
              <a:ext cx="647640" cy="309240"/>
              <a:chOff x="6543720" y="3776760"/>
              <a:chExt cx="647640" cy="3092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543720" y="3879720"/>
                <a:ext cx="647640" cy="206280"/>
                <a:chOff x="6543720" y="3879720"/>
                <a:chExt cx="647640" cy="2062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3720" y="3879720"/>
                  <a:ext cx="64764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>
                  <a:off x="6604200" y="3931200"/>
                  <a:ext cx="519840" cy="118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Up">
                    <a:avLst>
                      <a:gd name="adj" fmla="val 8564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9080">
                        <a:solidFill>
                          <a:srgbClr val="ffff00"/>
                        </a:solidFill>
                        <a:miter/>
                      </a:ln>
                      <a:solidFill>
                        <a:srgbClr val="339966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Impact"/>
                    </a:rPr>
                    <a:t>Application 2</a:t>
                  </a:r>
                  <a:endParaRPr b="0" lang="en-US" sz="24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339966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6806880" y="3776760"/>
                <a:ext cx="121320" cy="1029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1" name="j0289113" descr=""/>
            <p:cNvPicPr/>
            <p:nvPr/>
          </p:nvPicPr>
          <p:blipFill>
            <a:blip r:embed="rId28"/>
            <a:stretch/>
          </p:blipFill>
          <p:spPr>
            <a:xfrm>
              <a:off x="5715000" y="4113360"/>
              <a:ext cx="24300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j0289113" descr=""/>
            <p:cNvPicPr/>
            <p:nvPr/>
          </p:nvPicPr>
          <p:blipFill>
            <a:blip r:embed="rId29"/>
            <a:stretch/>
          </p:blipFill>
          <p:spPr>
            <a:xfrm>
              <a:off x="6018120" y="4113360"/>
              <a:ext cx="24300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j0289113" descr=""/>
            <p:cNvPicPr/>
            <p:nvPr/>
          </p:nvPicPr>
          <p:blipFill>
            <a:blip r:embed="rId30"/>
            <a:stretch/>
          </p:blipFill>
          <p:spPr>
            <a:xfrm>
              <a:off x="6302520" y="4113360"/>
              <a:ext cx="24120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j0289113" descr=""/>
            <p:cNvPicPr/>
            <p:nvPr/>
          </p:nvPicPr>
          <p:blipFill>
            <a:blip r:embed="rId31"/>
            <a:stretch/>
          </p:blipFill>
          <p:spPr>
            <a:xfrm>
              <a:off x="6585120" y="4113360"/>
              <a:ext cx="24264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j0289113" descr=""/>
            <p:cNvPicPr/>
            <p:nvPr/>
          </p:nvPicPr>
          <p:blipFill>
            <a:blip r:embed="rId32"/>
            <a:stretch/>
          </p:blipFill>
          <p:spPr>
            <a:xfrm>
              <a:off x="6888240" y="4113360"/>
              <a:ext cx="24264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j0289113" descr=""/>
            <p:cNvPicPr/>
            <p:nvPr/>
          </p:nvPicPr>
          <p:blipFill>
            <a:blip r:embed="rId33"/>
            <a:stretch/>
          </p:blipFill>
          <p:spPr>
            <a:xfrm>
              <a:off x="7172280" y="4113360"/>
              <a:ext cx="24120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j0289113" descr=""/>
            <p:cNvPicPr/>
            <p:nvPr/>
          </p:nvPicPr>
          <p:blipFill>
            <a:blip r:embed="rId34"/>
            <a:stretch/>
          </p:blipFill>
          <p:spPr>
            <a:xfrm>
              <a:off x="7737480" y="4113360"/>
              <a:ext cx="24300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j0289113" descr=""/>
            <p:cNvPicPr/>
            <p:nvPr/>
          </p:nvPicPr>
          <p:blipFill>
            <a:blip r:embed="rId35"/>
            <a:stretch/>
          </p:blipFill>
          <p:spPr>
            <a:xfrm>
              <a:off x="7454880" y="4113360"/>
              <a:ext cx="24300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9A2-6041-4801-9E6D-9E18447486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Times New Roman"/>
              </a:rPr>
              <a:t>Транзиционные системы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47920" y="2057400"/>
                <a:ext cx="3097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⊆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80880" y="1371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рдинарные транзиционные (динамические) системы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362320" y="2895480"/>
                <a:ext cx="1284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533520" y="35812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странство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Т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– отношение перех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4495680"/>
                <a:ext cx="1295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/>
                    </m:acc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335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Транзитивное замык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514600"/>
            <a:ext cx="2971800" cy="31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вижение в фазовом пространстве,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(для заданного временного интервал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зменение состояния хардверной 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зменение состояния софтверной 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2D3-5D10-4F73-9264-B306571C7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let</cp:lastModifiedBy>
  <dcterms:modified xsi:type="dcterms:W3CDTF">2006-02-22T18:39:08Z</dcterms:modified>
  <cp:revision>90</cp:revision>
  <dc:subject/>
  <dc:title>Агенты, среды и проектирование программного обеспечения</dc:title>
</cp:coreProperties>
</file>