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18313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E3A4-1EBF-46DB-B8E3-1A7504CF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651B-446B-4E07-BB4C-0410DF16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A2E3-D8E0-4C78-BB24-B632B9B5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63DB-435D-4F8A-9BCC-0E6BAFD6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621-1CE6-4763-A931-24922581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697B-54C0-434D-BFC8-B77AD8E0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DE03-A03B-44CB-AC29-4C4A6EE9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FAFE-88DD-49D9-BC59-2A44CD32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0023-51F6-4ABF-972F-335CD102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62BA-32CD-4298-813B-85EE4841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71E4-9D3C-46E2-961D-64BC8CCA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39AD-4B55-4889-AF78-F40B2144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CAF0-51BA-425A-8F68-A48C64BD5E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66"/>
                </a:solidFill>
                <a:latin typeface="Times New Roman"/>
              </a:rPr>
              <a:t>Инсерционное моделирование</a:t>
            </a:r>
            <a:br>
              <a:rPr sz="3200"/>
            </a:br>
            <a:br>
              <a:rPr sz="3200"/>
            </a:br>
            <a:r>
              <a:rPr b="1" lang="uk-UA" sz="2800" spc="-1" strike="noStrike">
                <a:solidFill>
                  <a:srgbClr val="cc0066"/>
                </a:solidFill>
                <a:latin typeface="Times New Roman"/>
              </a:rPr>
              <a:t>Лекция</a:t>
            </a: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7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c0066"/>
                </a:solidFill>
                <a:latin typeface="Times New Roman"/>
              </a:rPr>
              <a:t> Базовые протоколы</a:t>
            </a:r>
            <a:endParaRPr b="0" lang="en-US" sz="2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imes New Roman"/>
              </a:rPr>
              <a:t>Читатели и писатели</a:t>
            </a:r>
            <a:br>
              <a:rPr sz="3600"/>
            </a:b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(описание среды)</a:t>
            </a:r>
            <a:endParaRPr b="0" lang="en-US" sz="20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9856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69960" y="17668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7800" y="1219320"/>
            <a:ext cx="4552920" cy="31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environment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types: Ni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agent_types: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reader: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registered: agent name-&gt;Boo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acces allowed: agent name-&gt;B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writer:(access allowed:Boo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attributes:(record:sym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30800" y="3657600"/>
            <a:ext cx="479232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ntegrity condition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Forall(reader m)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access allowed m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Forall(writer n) ~(access allowed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initial states: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AA51-803E-4452-9683-1493B3730B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17680" y="21477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" y="228600"/>
            <a:ext cx="5715000" cy="640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gistrate: Forall(m,s)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(reader m,regiser.s)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~(registered 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&gt; after registrated m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(reader m,s) &amp; registered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: Forall(m,s)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(reader m,read.s)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ess allowed 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&gt; after read(m,record)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(reader m,s) &amp; ~(access allowed 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ease: Forall(m,s)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(reader m,release.s) &amp; registered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&gt; after released m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(reader m,s) &amp; ~(registered 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39360" y="1600200"/>
            <a:ext cx="3259080" cy="947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Базовые протокол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читат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13320" y="4267080"/>
            <a:ext cx="2004840" cy="764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registered m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действия сре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2E63-E930-43BD-A4ED-0C0209CFAD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143000" y="2362320"/>
            <a:ext cx="678168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:Forall(m,s,x)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(writer m,write x.s)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ist (reader n) registered 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all(reader n)(registered n-&gt; ~(access allowed n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&gt;after write(m,x)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(writer m,s) &amp; (record=x)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all(reader n)(registered n-&gt;access allowed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036400" y="914400"/>
            <a:ext cx="3259080" cy="947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Базовые протокол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писат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1AF2-07F7-48FB-B47F-7C14EE0951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356200" y="2819520"/>
            <a:ext cx="4350600" cy="28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reader init = register.(loop read;release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riter init = loop writ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loop x = (x;loop x) + Del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x:(a.P) = (x:a).(x:P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x:(P+Q) = (x:P) + (x:Q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x:P = x:intens P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43000" y="175248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reader a: reader init || reader b: reader init || writer c:writer i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24400" y="690480"/>
            <a:ext cx="758736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Параллельная композиция именованных аген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D6D3-0F9B-4F68-9BC0-690848992C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imes New Roman"/>
              </a:rPr>
              <a:t>Model Driven </a:t>
            </a:r>
            <a:br>
              <a:rPr sz="3600"/>
            </a:b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c0066"/>
                </a:solidFill>
                <a:latin typeface="Times New Roman"/>
              </a:rPr>
              <a:t>(основанное на моделях)</a:t>
            </a:r>
            <a:endParaRPr b="0" lang="en-US" sz="2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63040" y="380880"/>
            <a:ext cx="178704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Архитек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Разработ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Верифик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Тестир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…………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523880"/>
            <a:ext cx="4572000" cy="464832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RS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2971800"/>
            <a:ext cx="144792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Требования 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пец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2895480"/>
            <a:ext cx="9144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родук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3352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4343400"/>
            <a:ext cx="9144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Набор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тес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3886200"/>
            <a:ext cx="1676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181480" y="38098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95480"/>
            <a:ext cx="13716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Times New Roman"/>
              </a:rPr>
              <a:t>Выполнима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Times New Roman"/>
              </a:rPr>
              <a:t>моде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724280" y="3809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3733920"/>
            <a:ext cx="144756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Формаль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требования 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специфик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5486400"/>
            <a:ext cx="160020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ручну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5867280"/>
            <a:ext cx="236232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Автоматичес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1828800"/>
            <a:ext cx="144792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Верификац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требов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00680" y="1828800"/>
            <a:ext cx="144756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Верификац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мод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model check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15000" y="1828800"/>
            <a:ext cx="144792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Верификац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продук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DA2-F3E2-4B03-8F0A-44CD73440E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Формальные требования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9440" y="1600200"/>
            <a:ext cx="7085880" cy="2531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Локальные (статическ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базовые протоко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аннотированные программные фраг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Глобальные (динамическ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формулы темпоральной лог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аннотированные сценарии (программ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83640" y="4724280"/>
            <a:ext cx="344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орию базовых протокол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м. Кибернетика и систем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ализ, 4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42E1-043B-49F4-ACA0-914FB64F77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Базовые протоколы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2133720"/>
            <a:ext cx="5639040" cy="119124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604960" y="2438280"/>
                <a:ext cx="40086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β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457200" y="3886200"/>
            <a:ext cx="2209680" cy="533520"/>
          </a:xfrm>
          <a:prstGeom prst="wedgeRoundRectCallout">
            <a:avLst>
              <a:gd name="adj1" fmla="val 74064"/>
              <a:gd name="adj2" fmla="val -240773"/>
              <a:gd name="adj3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Предуслов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4915080"/>
            <a:ext cx="2209680" cy="990360"/>
          </a:xfrm>
          <a:prstGeom prst="wedgeRoundRectCallout">
            <a:avLst>
              <a:gd name="adj1" fmla="val -177657"/>
              <a:gd name="adj2" fmla="val -112981"/>
              <a:gd name="adj3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Properties of environment</a:t>
            </a: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838080"/>
            <a:ext cx="2286000" cy="1295640"/>
          </a:xfrm>
          <a:prstGeom prst="wedgeRoundRectCallout">
            <a:avLst>
              <a:gd name="adj1" fmla="val 56041"/>
              <a:gd name="adj2" fmla="val 78310"/>
              <a:gd name="adj3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Times New Roman"/>
              </a:rPr>
              <a:t>Квантор первого порядка по типизированным переменны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3886200"/>
            <a:ext cx="2209680" cy="533520"/>
          </a:xfrm>
          <a:prstGeom prst="wedgeRoundRectCallout">
            <a:avLst>
              <a:gd name="adj1" fmla="val -83407"/>
              <a:gd name="adj2" fmla="val -235416"/>
              <a:gd name="adj3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Постуслов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4876920"/>
            <a:ext cx="3657600" cy="1066680"/>
          </a:xfrm>
          <a:prstGeom prst="wedgeRoundRectCallout">
            <a:avLst>
              <a:gd name="adj1" fmla="val 67620"/>
              <a:gd name="adj2" fmla="val -236754"/>
              <a:gd name="adj3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Times New Roman"/>
              </a:rPr>
              <a:t>Конечный процесс (поведение) атрибутной среды с погруженными агент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4915080"/>
            <a:ext cx="2209680" cy="990360"/>
          </a:xfrm>
          <a:prstGeom prst="wedgeRoundRectCallout">
            <a:avLst>
              <a:gd name="adj1" fmla="val 86134"/>
              <a:gd name="adj2" fmla="val -112981"/>
              <a:gd name="adj3" fmla="val 1666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Свойства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77000" y="914400"/>
            <a:ext cx="544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Комбинация Хоаровских троек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моделью взаимодействия агентов и сре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4C8-3F2E-4DA3-89C4-C8B8AD386D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Два базовых протокола для модели телефонной связи</a:t>
            </a:r>
            <a:endParaRPr b="0" lang="en-US" sz="2400" spc="-1" strike="noStrike">
              <a:solidFill>
                <a:srgbClr val="cc0066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838080" y="990720"/>
            <a:ext cx="8001000" cy="5105160"/>
            <a:chOff x="838080" y="990720"/>
            <a:chExt cx="8001000" cy="5105160"/>
          </a:xfrm>
        </p:grpSpPr>
        <p:grpSp>
          <p:nvGrpSpPr>
            <p:cNvPr id="78" name=""/>
            <p:cNvGrpSpPr/>
            <p:nvPr/>
          </p:nvGrpSpPr>
          <p:grpSpPr>
            <a:xfrm>
              <a:off x="1676520" y="1360080"/>
              <a:ext cx="5866920" cy="4734720"/>
              <a:chOff x="1676520" y="1360080"/>
              <a:chExt cx="5866920" cy="4734720"/>
            </a:xfrm>
          </p:grpSpPr>
          <p:sp>
            <p:nvSpPr>
              <p:cNvPr id="79" name=""/>
              <p:cNvSpPr/>
              <p:nvPr/>
            </p:nvSpPr>
            <p:spPr>
              <a:xfrm>
                <a:off x="3215160" y="1712880"/>
                <a:ext cx="1440" cy="337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793600" y="1444680"/>
                <a:ext cx="840960" cy="261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909160" y="1519920"/>
                <a:ext cx="3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676520" y="1430640"/>
                <a:ext cx="841320" cy="2606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792080" y="1508040"/>
                <a:ext cx="3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799360" y="5100480"/>
                <a:ext cx="843120" cy="26100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917080" y="5178240"/>
                <a:ext cx="3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676520" y="5105160"/>
                <a:ext cx="841320" cy="26100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92080" y="5182920"/>
                <a:ext cx="3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103840" y="1712880"/>
                <a:ext cx="2160" cy="337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756080" y="4442400"/>
                <a:ext cx="1806480" cy="406080"/>
              </a:xfrm>
              <a:custGeom>
                <a:avLst/>
                <a:gdLst/>
                <a:ahLst/>
                <a:rect l="l" t="t" r="r" b="b"/>
                <a:pathLst>
                  <a:path w="1861" h="344">
                    <a:moveTo>
                      <a:pt x="251" y="0"/>
                    </a:moveTo>
                    <a:lnTo>
                      <a:pt x="0" y="172"/>
                    </a:lnTo>
                    <a:lnTo>
                      <a:pt x="251" y="344"/>
                    </a:lnTo>
                    <a:lnTo>
                      <a:pt x="1610" y="344"/>
                    </a:lnTo>
                    <a:lnTo>
                      <a:pt x="1861" y="172"/>
                    </a:lnTo>
                    <a:lnTo>
                      <a:pt x="1610" y="0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56080" y="1964520"/>
                <a:ext cx="1806480" cy="406440"/>
              </a:xfrm>
              <a:custGeom>
                <a:avLst/>
                <a:gdLst/>
                <a:ahLst/>
                <a:rect l="l" t="t" r="r" b="b"/>
                <a:pathLst>
                  <a:path w="1861" h="345">
                    <a:moveTo>
                      <a:pt x="251" y="0"/>
                    </a:moveTo>
                    <a:lnTo>
                      <a:pt x="0" y="173"/>
                    </a:lnTo>
                    <a:lnTo>
                      <a:pt x="251" y="345"/>
                    </a:lnTo>
                    <a:lnTo>
                      <a:pt x="1610" y="345"/>
                    </a:lnTo>
                    <a:lnTo>
                      <a:pt x="1861" y="173"/>
                    </a:lnTo>
                    <a:lnTo>
                      <a:pt x="1610" y="0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76840" y="2072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676520" y="1360080"/>
                <a:ext cx="83520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4160" y="1428120"/>
                <a:ext cx="531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hone</a:t>
                </a: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 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390400" y="1428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56520" y="1388160"/>
                <a:ext cx="97524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868840" y="1456560"/>
                <a:ext cx="566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Networ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517200" y="1456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98080" y="1964520"/>
                <a:ext cx="1114920" cy="51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9320" y="2039760"/>
                <a:ext cx="861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hone</a:t>
                </a: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(n,idl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91680" y="20397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2094120" y="3104280"/>
                <a:ext cx="1110960" cy="145440"/>
                <a:chOff x="2094120" y="3104280"/>
                <a:chExt cx="1110960" cy="1454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094120" y="3177000"/>
                  <a:ext cx="994320" cy="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084480" y="3104280"/>
                  <a:ext cx="120600" cy="145440"/>
                </a:xfrm>
                <a:custGeom>
                  <a:avLst/>
                  <a:gdLst/>
                  <a:ahLst/>
                  <a:rect l="l" t="t" r="r" b="b"/>
                  <a:pathLst>
                    <a:path w="125" h="125">
                      <a:moveTo>
                        <a:pt x="0" y="125"/>
                      </a:moveTo>
                      <a:lnTo>
                        <a:pt x="125" y="63"/>
                      </a:lnTo>
                      <a:lnTo>
                        <a:pt x="0" y="0"/>
                      </a:lnTo>
                      <a:lnTo>
                        <a:pt x="0" y="1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096280" y="3725280"/>
                <a:ext cx="1108440" cy="145080"/>
                <a:chOff x="2096280" y="3725280"/>
                <a:chExt cx="1108440" cy="145080"/>
              </a:xfrm>
            </p:grpSpPr>
            <p:sp>
              <p:nvSpPr>
                <p:cNvPr id="105" name=""/>
                <p:cNvSpPr/>
                <p:nvPr/>
              </p:nvSpPr>
              <p:spPr>
                <a:xfrm flipH="1">
                  <a:off x="2212200" y="3795480"/>
                  <a:ext cx="99252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6280" y="3725280"/>
                  <a:ext cx="122400" cy="145080"/>
                </a:xfrm>
                <a:custGeom>
                  <a:avLst/>
                  <a:gdLst/>
                  <a:ahLst/>
                  <a:rect l="l" t="t" r="r" b="b"/>
                  <a:pathLst>
                    <a:path w="124" h="125">
                      <a:moveTo>
                        <a:pt x="124" y="0"/>
                      </a:moveTo>
                      <a:lnTo>
                        <a:pt x="0" y="62"/>
                      </a:lnTo>
                      <a:lnTo>
                        <a:pt x="124" y="125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>
                <a:off x="2098080" y="4442400"/>
                <a:ext cx="1258920" cy="46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08960" y="4517640"/>
                <a:ext cx="909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hone</a:t>
                </a: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(n, dial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139560" y="45176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94120" y="2782440"/>
                <a:ext cx="111312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03200" y="2850480"/>
                <a:ext cx="662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offhook 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978280" y="2850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094120" y="3459240"/>
                <a:ext cx="111312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04280" y="3525480"/>
                <a:ext cx="726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dialtone 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36240" y="3525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985360" y="1706040"/>
                <a:ext cx="1440" cy="3377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558040" y="1440000"/>
                <a:ext cx="847080" cy="261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675400" y="1517760"/>
                <a:ext cx="3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439160" y="1423440"/>
                <a:ext cx="844920" cy="261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55440" y="1503360"/>
                <a:ext cx="3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565960" y="5093280"/>
                <a:ext cx="846720" cy="26100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684400" y="5171400"/>
                <a:ext cx="3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439160" y="5100480"/>
                <a:ext cx="844920" cy="26100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55440" y="5178240"/>
                <a:ext cx="3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68280" y="1706040"/>
                <a:ext cx="2160" cy="3377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18720" y="1931400"/>
                <a:ext cx="1814040" cy="403920"/>
              </a:xfrm>
              <a:custGeom>
                <a:avLst/>
                <a:gdLst/>
                <a:ahLst/>
                <a:rect l="l" t="t" r="r" b="b"/>
                <a:pathLst>
                  <a:path w="1868" h="345">
                    <a:moveTo>
                      <a:pt x="253" y="0"/>
                    </a:moveTo>
                    <a:lnTo>
                      <a:pt x="0" y="172"/>
                    </a:lnTo>
                    <a:lnTo>
                      <a:pt x="253" y="345"/>
                    </a:lnTo>
                    <a:lnTo>
                      <a:pt x="1617" y="345"/>
                    </a:lnTo>
                    <a:lnTo>
                      <a:pt x="1868" y="172"/>
                    </a:lnTo>
                    <a:lnTo>
                      <a:pt x="1617" y="0"/>
                    </a:lnTo>
                    <a:lnTo>
                      <a:pt x="253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76880" y="1706040"/>
                <a:ext cx="2160" cy="3377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47760" y="5083920"/>
                <a:ext cx="846720" cy="261000"/>
              </a:xfrm>
              <a:prstGeom prst="rect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63320" y="5163840"/>
                <a:ext cx="3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647760" y="1440000"/>
                <a:ext cx="846720" cy="2610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763320" y="1517760"/>
                <a:ext cx="3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413960" y="4228200"/>
                <a:ext cx="3129480" cy="406440"/>
              </a:xfrm>
              <a:custGeom>
                <a:avLst/>
                <a:gdLst/>
                <a:ahLst/>
                <a:rect l="l" t="t" r="r" b="b"/>
                <a:pathLst>
                  <a:path w="3222" h="345">
                    <a:moveTo>
                      <a:pt x="267" y="0"/>
                    </a:moveTo>
                    <a:lnTo>
                      <a:pt x="0" y="173"/>
                    </a:lnTo>
                    <a:lnTo>
                      <a:pt x="267" y="345"/>
                    </a:lnTo>
                    <a:lnTo>
                      <a:pt x="2955" y="345"/>
                    </a:lnTo>
                    <a:lnTo>
                      <a:pt x="3222" y="173"/>
                    </a:lnTo>
                    <a:lnTo>
                      <a:pt x="2955" y="0"/>
                    </a:lnTo>
                    <a:lnTo>
                      <a:pt x="267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439160" y="1367280"/>
                <a:ext cx="97884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547520" y="1435680"/>
                <a:ext cx="610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Phone m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38040" y="16941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671160" y="1383840"/>
                <a:ext cx="84096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780240" y="1451520"/>
                <a:ext cx="531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Phone 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385760" y="145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542560" y="1367280"/>
                <a:ext cx="97884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653440" y="1435680"/>
                <a:ext cx="566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Networ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302880" y="14356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856760" y="1947960"/>
                <a:ext cx="1231560" cy="39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965840" y="2013480"/>
                <a:ext cx="911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hone</a:t>
                </a: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(m,dial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01480" y="2013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914720" y="2740320"/>
                <a:ext cx="106632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022720" y="2813040"/>
                <a:ext cx="597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dial(m,n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11400" y="2813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276520" y="4235760"/>
                <a:ext cx="153648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382360" y="4303440"/>
                <a:ext cx="1073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hone</a:t>
                </a: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(m, dial n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504840" y="43034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4854960" y="3040920"/>
                <a:ext cx="1116360" cy="147600"/>
                <a:chOff x="4854960" y="3040920"/>
                <a:chExt cx="1116360" cy="1476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854960" y="3113640"/>
                  <a:ext cx="100008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851080" y="3040920"/>
                  <a:ext cx="120240" cy="147600"/>
                </a:xfrm>
                <a:custGeom>
                  <a:avLst/>
                  <a:gdLst/>
                  <a:ahLst/>
                  <a:rect l="l" t="t" r="r" b="b"/>
                  <a:pathLst>
                    <a:path w="124" h="124">
                      <a:moveTo>
                        <a:pt x="0" y="124"/>
                      </a:moveTo>
                      <a:lnTo>
                        <a:pt x="124" y="63"/>
                      </a:lnTo>
                      <a:lnTo>
                        <a:pt x="0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894680" y="5653080"/>
                <a:ext cx="4920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ru-RU" sz="1200" spc="-1" strike="noStrike">
                    <a:solidFill>
                      <a:srgbClr val="000000"/>
                    </a:solidFill>
                    <a:latin typeface="Times New Roman"/>
                  </a:rPr>
                  <a:t>call setup initial                                                           call setup dialing 1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006320" y="5653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895760" y="5911920"/>
                <a:ext cx="1372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570840" y="5911920"/>
                <a:ext cx="41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082400" y="59119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838080" y="990720"/>
              <a:ext cx="7010640" cy="510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29400" y="2590560"/>
              <a:ext cx="2209680" cy="685440"/>
            </a:xfrm>
            <a:prstGeom prst="wedgeRoundRectCallout">
              <a:avLst>
                <a:gd name="adj1" fmla="val -91592"/>
                <a:gd name="adj2" fmla="val -90046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66"/>
                  </a:solidFill>
                  <a:latin typeface="Times New Roman"/>
                </a:rPr>
                <a:t>Предуслов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2680" y="3276360"/>
              <a:ext cx="2210040" cy="685440"/>
            </a:xfrm>
            <a:prstGeom prst="wedgeRoundRectCallout">
              <a:avLst>
                <a:gd name="adj1" fmla="val 90875"/>
                <a:gd name="adj2" fmla="val 85185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66"/>
                  </a:solidFill>
                  <a:latin typeface="Times New Roman"/>
                </a:rPr>
                <a:t>Постуслов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996120" y="1066680"/>
            <a:ext cx="4903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90160" y="914400"/>
            <a:ext cx="909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0765-CFA7-41E9-A583-8962914573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imes New Roman"/>
              </a:rPr>
              <a:t>Еще два протокола</a:t>
            </a:r>
            <a:endParaRPr b="0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360" y="8431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68760" y="1574640"/>
            <a:ext cx="2880" cy="29181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1346040"/>
            <a:ext cx="811080" cy="225720"/>
          </a:xfrm>
          <a:prstGeom prst="rect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73920" y="141120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84120" y="1332000"/>
            <a:ext cx="812880" cy="225360"/>
          </a:xfrm>
          <a:prstGeom prst="rect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96080" y="139860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7000" y="4502160"/>
            <a:ext cx="812880" cy="225360"/>
          </a:xfrm>
          <a:prstGeom prst="rect">
            <a:avLst/>
          </a:prstGeom>
          <a:solidFill>
            <a:srgbClr val="969696"/>
          </a:solidFill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79320" y="45673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84120" y="4506840"/>
            <a:ext cx="812880" cy="225360"/>
          </a:xfrm>
          <a:prstGeom prst="rect">
            <a:avLst/>
          </a:prstGeom>
          <a:solidFill>
            <a:srgbClr val="969696"/>
          </a:solidFill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96080" y="457200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97040" y="1574640"/>
            <a:ext cx="1440" cy="29181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19600" y="1574640"/>
            <a:ext cx="1440" cy="29181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06680" y="1346040"/>
            <a:ext cx="811440" cy="225720"/>
          </a:xfrm>
          <a:prstGeom prst="rect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19720" y="141120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60360" y="1809720"/>
            <a:ext cx="3005280" cy="352440"/>
          </a:xfrm>
          <a:custGeom>
            <a:avLst/>
            <a:gdLst/>
            <a:ahLst/>
            <a:rect l="l" t="t" r="r" b="b"/>
            <a:pathLst>
              <a:path w="2864" h="306">
                <a:moveTo>
                  <a:pt x="236" y="0"/>
                </a:moveTo>
                <a:lnTo>
                  <a:pt x="0" y="153"/>
                </a:lnTo>
                <a:lnTo>
                  <a:pt x="236" y="306"/>
                </a:lnTo>
                <a:lnTo>
                  <a:pt x="2628" y="306"/>
                </a:lnTo>
                <a:lnTo>
                  <a:pt x="2864" y="153"/>
                </a:lnTo>
                <a:lnTo>
                  <a:pt x="2628" y="0"/>
                </a:lnTo>
                <a:lnTo>
                  <a:pt x="236" y="0"/>
                </a:lnTo>
                <a:close/>
              </a:path>
            </a:pathLst>
          </a:custGeom>
          <a:solidFill>
            <a:srgbClr val="ffffff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51000" y="3792600"/>
            <a:ext cx="3004920" cy="350640"/>
          </a:xfrm>
          <a:custGeom>
            <a:avLst/>
            <a:gdLst/>
            <a:ahLst/>
            <a:rect l="l" t="t" r="r" b="b"/>
            <a:pathLst>
              <a:path w="2864" h="306">
                <a:moveTo>
                  <a:pt x="236" y="0"/>
                </a:moveTo>
                <a:lnTo>
                  <a:pt x="0" y="153"/>
                </a:lnTo>
                <a:lnTo>
                  <a:pt x="236" y="306"/>
                </a:lnTo>
                <a:lnTo>
                  <a:pt x="2628" y="306"/>
                </a:lnTo>
                <a:lnTo>
                  <a:pt x="2864" y="153"/>
                </a:lnTo>
                <a:lnTo>
                  <a:pt x="2628" y="0"/>
                </a:lnTo>
                <a:lnTo>
                  <a:pt x="236" y="0"/>
                </a:lnTo>
                <a:close/>
              </a:path>
            </a:pathLst>
          </a:custGeom>
          <a:solidFill>
            <a:srgbClr val="ffffff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65360" y="1811160"/>
            <a:ext cx="2278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62920" y="1873080"/>
            <a:ext cx="1585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hone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(m, dial n) &amp; valid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65800" y="1873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33640" y="3781440"/>
            <a:ext cx="14745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78600" y="3886200"/>
            <a:ext cx="2396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hone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(m, ringing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&amp; phone(n,ring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66720" y="3838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759040" y="2698920"/>
            <a:ext cx="1071000" cy="124920"/>
            <a:chOff x="2759040" y="2698920"/>
            <a:chExt cx="1071000" cy="124920"/>
          </a:xfrm>
        </p:grpSpPr>
        <p:sp>
          <p:nvSpPr>
            <p:cNvPr id="189" name=""/>
            <p:cNvSpPr/>
            <p:nvPr/>
          </p:nvSpPr>
          <p:spPr>
            <a:xfrm>
              <a:off x="2759040" y="2760120"/>
              <a:ext cx="958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14840" y="2698920"/>
              <a:ext cx="115200" cy="124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0" y="111"/>
                  </a:moveTo>
                  <a:lnTo>
                    <a:pt x="111" y="56"/>
                  </a:lnTo>
                  <a:lnTo>
                    <a:pt x="0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697040" y="3135240"/>
            <a:ext cx="1071360" cy="125280"/>
            <a:chOff x="1697040" y="3135240"/>
            <a:chExt cx="1071360" cy="125280"/>
          </a:xfrm>
        </p:grpSpPr>
        <p:sp>
          <p:nvSpPr>
            <p:cNvPr id="192" name=""/>
            <p:cNvSpPr/>
            <p:nvPr/>
          </p:nvSpPr>
          <p:spPr>
            <a:xfrm flipH="1">
              <a:off x="1810080" y="3196440"/>
              <a:ext cx="958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7040" y="3135240"/>
              <a:ext cx="117360" cy="125280"/>
            </a:xfrm>
            <a:custGeom>
              <a:avLst/>
              <a:gdLst/>
              <a:ahLst/>
              <a:rect l="l" t="t" r="r" b="b"/>
              <a:pathLst>
                <a:path w="113" h="111">
                  <a:moveTo>
                    <a:pt x="113" y="0"/>
                  </a:moveTo>
                  <a:lnTo>
                    <a:pt x="0" y="55"/>
                  </a:lnTo>
                  <a:lnTo>
                    <a:pt x="113" y="111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909800" y="2855880"/>
            <a:ext cx="8301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16360" y="2916360"/>
            <a:ext cx="250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r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87960" y="2916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70360" y="2419200"/>
            <a:ext cx="671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75120" y="2476440"/>
            <a:ext cx="28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ring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65120" y="29941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97160" y="5003640"/>
            <a:ext cx="64324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24400" y="5059440"/>
            <a:ext cx="102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call setup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8600" y="5059440"/>
            <a:ext cx="4150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dialing 2                                                                        call setup failure 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81560" y="5059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00840" y="5283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20040" y="55134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1295280"/>
            <a:ext cx="939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66920" y="1333440"/>
            <a:ext cx="561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Phone m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45920" y="155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49080" y="1347840"/>
            <a:ext cx="522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75480" y="13478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11080" y="1359000"/>
            <a:ext cx="486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Phone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92120" y="13590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73800" y="1566720"/>
            <a:ext cx="1440" cy="29196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64120" y="1336680"/>
            <a:ext cx="814680" cy="225360"/>
          </a:xfrm>
          <a:prstGeom prst="rect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78240" y="140328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90960" y="1325520"/>
            <a:ext cx="811440" cy="225360"/>
          </a:xfrm>
          <a:prstGeom prst="rect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02560" y="139068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73840" y="4492800"/>
            <a:ext cx="811080" cy="225360"/>
          </a:xfrm>
          <a:prstGeom prst="rect">
            <a:avLst/>
          </a:prstGeom>
          <a:solidFill>
            <a:srgbClr val="969696"/>
          </a:solidFill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86160" y="455940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90960" y="4498920"/>
            <a:ext cx="811440" cy="227160"/>
          </a:xfrm>
          <a:prstGeom prst="rect">
            <a:avLst/>
          </a:prstGeom>
          <a:solidFill>
            <a:srgbClr val="969696"/>
          </a:solidFill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02560" y="45655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03880" y="1566720"/>
            <a:ext cx="3240" cy="29196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67280" y="3795840"/>
            <a:ext cx="1741320" cy="349200"/>
          </a:xfrm>
          <a:custGeom>
            <a:avLst/>
            <a:gdLst/>
            <a:ahLst/>
            <a:rect l="l" t="t" r="r" b="b"/>
            <a:pathLst>
              <a:path w="1660" h="306">
                <a:moveTo>
                  <a:pt x="225" y="0"/>
                </a:moveTo>
                <a:lnTo>
                  <a:pt x="0" y="153"/>
                </a:lnTo>
                <a:lnTo>
                  <a:pt x="225" y="306"/>
                </a:lnTo>
                <a:lnTo>
                  <a:pt x="1437" y="306"/>
                </a:lnTo>
                <a:lnTo>
                  <a:pt x="1660" y="153"/>
                </a:lnTo>
                <a:lnTo>
                  <a:pt x="1437" y="0"/>
                </a:lnTo>
                <a:lnTo>
                  <a:pt x="225" y="0"/>
                </a:lnTo>
                <a:close/>
              </a:path>
            </a:pathLst>
          </a:custGeom>
          <a:solidFill>
            <a:srgbClr val="ffffff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21400" y="1566720"/>
            <a:ext cx="3240" cy="29196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12080" y="4487760"/>
            <a:ext cx="811080" cy="227160"/>
          </a:xfrm>
          <a:prstGeom prst="rect">
            <a:avLst/>
          </a:prstGeom>
          <a:solidFill>
            <a:srgbClr val="969696"/>
          </a:solidFill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22600" y="455436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12080" y="1336680"/>
            <a:ext cx="811080" cy="225360"/>
          </a:xfrm>
          <a:prstGeom prst="rect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22600" y="140328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67200" y="1955880"/>
            <a:ext cx="3002040" cy="349200"/>
          </a:xfrm>
          <a:custGeom>
            <a:avLst/>
            <a:gdLst/>
            <a:ahLst/>
            <a:rect l="l" t="t" r="r" b="b"/>
            <a:pathLst>
              <a:path w="2864" h="307">
                <a:moveTo>
                  <a:pt x="237" y="0"/>
                </a:moveTo>
                <a:lnTo>
                  <a:pt x="0" y="154"/>
                </a:lnTo>
                <a:lnTo>
                  <a:pt x="237" y="307"/>
                </a:lnTo>
                <a:lnTo>
                  <a:pt x="2628" y="307"/>
                </a:lnTo>
                <a:lnTo>
                  <a:pt x="2864" y="154"/>
                </a:lnTo>
                <a:lnTo>
                  <a:pt x="2628" y="0"/>
                </a:lnTo>
                <a:lnTo>
                  <a:pt x="237" y="0"/>
                </a:lnTo>
                <a:close/>
              </a:path>
            </a:pathLst>
          </a:custGeom>
          <a:solidFill>
            <a:srgbClr val="ffffff"/>
          </a:solidFill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73760" y="1333440"/>
            <a:ext cx="561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Phone m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54200" y="155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08120" y="1333440"/>
            <a:ext cx="522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79800" y="13478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27640" y="1347840"/>
            <a:ext cx="486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Phone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708680" y="13478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303880" y="2981160"/>
            <a:ext cx="1069560" cy="126720"/>
            <a:chOff x="5303880" y="2981160"/>
            <a:chExt cx="1069560" cy="126720"/>
          </a:xfrm>
        </p:grpSpPr>
        <p:sp>
          <p:nvSpPr>
            <p:cNvPr id="237" name=""/>
            <p:cNvSpPr/>
            <p:nvPr/>
          </p:nvSpPr>
          <p:spPr>
            <a:xfrm flipH="1">
              <a:off x="5415120" y="3043440"/>
              <a:ext cx="9583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03880" y="2981160"/>
              <a:ext cx="117360" cy="12672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0"/>
                  </a:moveTo>
                  <a:lnTo>
                    <a:pt x="0" y="56"/>
                  </a:lnTo>
                  <a:lnTo>
                    <a:pt x="110" y="11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281560" y="1957320"/>
            <a:ext cx="2279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79840" y="2019240"/>
            <a:ext cx="1753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hone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(m, dial n) &amp; ~(valid 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97280" y="201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3792600"/>
            <a:ext cx="1476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62560" y="3849840"/>
            <a:ext cx="928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hone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(m, bus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74160" y="38498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94400" y="2736720"/>
            <a:ext cx="766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99880" y="2792520"/>
            <a:ext cx="31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busy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95400" y="838080"/>
            <a:ext cx="7234200" cy="5334120"/>
          </a:xfrm>
          <a:prstGeom prst="rect">
            <a:avLst/>
          </a:prstGeom>
          <a:noFill/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06680" y="4492800"/>
            <a:ext cx="811440" cy="223560"/>
          </a:xfrm>
          <a:prstGeom prst="rect">
            <a:avLst/>
          </a:prstGeom>
          <a:solidFill>
            <a:srgbClr val="969696"/>
          </a:solidFill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19720" y="455940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6AF1-0F80-4CE4-839F-1F3E5FEC43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29718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imes New Roman"/>
              </a:rPr>
              <a:t>Аннотированный сценарий</a:t>
            </a:r>
            <a:endParaRPr b="0" lang="en-US" sz="2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086360" y="590400"/>
            <a:ext cx="15840" cy="5075280"/>
          </a:xfrm>
          <a:prstGeom prst="line">
            <a:avLst/>
          </a:prstGeom>
          <a:ln w="21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22600" y="419040"/>
            <a:ext cx="1152720" cy="176400"/>
          </a:xfrm>
          <a:prstGeom prst="rect">
            <a:avLst/>
          </a:prstGeom>
          <a:noFill/>
          <a:ln w="21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81000" y="4716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539800" y="609480"/>
            <a:ext cx="12600" cy="5054760"/>
          </a:xfrm>
          <a:prstGeom prst="line">
            <a:avLst/>
          </a:prstGeom>
          <a:ln w="21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01680" y="750960"/>
            <a:ext cx="2478240" cy="274680"/>
          </a:xfrm>
          <a:custGeom>
            <a:avLst/>
            <a:gdLst/>
            <a:ahLst/>
            <a:rect l="l" t="t" r="r" b="b"/>
            <a:pathLst>
              <a:path w="2340" h="432">
                <a:moveTo>
                  <a:pt x="314" y="0"/>
                </a:moveTo>
                <a:lnTo>
                  <a:pt x="0" y="216"/>
                </a:lnTo>
                <a:lnTo>
                  <a:pt x="314" y="432"/>
                </a:lnTo>
                <a:lnTo>
                  <a:pt x="2023" y="432"/>
                </a:lnTo>
                <a:lnTo>
                  <a:pt x="2340" y="216"/>
                </a:lnTo>
                <a:lnTo>
                  <a:pt x="2023" y="0"/>
                </a:lnTo>
                <a:lnTo>
                  <a:pt x="314" y="0"/>
                </a:lnTo>
                <a:close/>
              </a:path>
            </a:pathLst>
          </a:custGeom>
          <a:solidFill>
            <a:srgbClr val="ccccff"/>
          </a:solidFill>
          <a:ln w="21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95840" y="600120"/>
            <a:ext cx="15840" cy="5065560"/>
          </a:xfrm>
          <a:prstGeom prst="line">
            <a:avLst/>
          </a:prstGeom>
          <a:ln w="21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08680" y="419040"/>
            <a:ext cx="1154160" cy="176400"/>
          </a:xfrm>
          <a:prstGeom prst="rect">
            <a:avLst/>
          </a:prstGeom>
          <a:noFill/>
          <a:ln w="21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68520" y="4716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55880" y="3400560"/>
            <a:ext cx="4275000" cy="272880"/>
          </a:xfrm>
          <a:custGeom>
            <a:avLst/>
            <a:gdLst/>
            <a:ahLst/>
            <a:rect l="l" t="t" r="r" b="b"/>
            <a:pathLst>
              <a:path w="4037" h="432">
                <a:moveTo>
                  <a:pt x="334" y="0"/>
                </a:moveTo>
                <a:lnTo>
                  <a:pt x="0" y="216"/>
                </a:lnTo>
                <a:lnTo>
                  <a:pt x="334" y="432"/>
                </a:lnTo>
                <a:lnTo>
                  <a:pt x="3704" y="432"/>
                </a:lnTo>
                <a:lnTo>
                  <a:pt x="4037" y="216"/>
                </a:lnTo>
                <a:lnTo>
                  <a:pt x="3704" y="0"/>
                </a:lnTo>
                <a:lnTo>
                  <a:pt x="334" y="0"/>
                </a:lnTo>
                <a:close/>
              </a:path>
            </a:pathLst>
          </a:custGeom>
          <a:solidFill>
            <a:srgbClr val="ff99cc"/>
          </a:solidFill>
          <a:ln w="21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9000" y="380880"/>
            <a:ext cx="1336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39840" y="425520"/>
            <a:ext cx="61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one 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03200" y="4255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89000" y="419040"/>
            <a:ext cx="1155960" cy="176400"/>
          </a:xfrm>
          <a:prstGeom prst="rect">
            <a:avLst/>
          </a:prstGeom>
          <a:noFill/>
          <a:ln w="21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50640" y="4716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65520" y="425520"/>
            <a:ext cx="56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54000" y="4255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75720" y="425520"/>
            <a:ext cx="53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one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03720" y="4255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92480" y="743040"/>
            <a:ext cx="2290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444400" y="7920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973240" y="762120"/>
            <a:ext cx="85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ne(m,id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20720" y="7952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560680" y="1293840"/>
            <a:ext cx="1528200" cy="98280"/>
            <a:chOff x="2560680" y="1293840"/>
            <a:chExt cx="1528200" cy="98280"/>
          </a:xfrm>
        </p:grpSpPr>
        <p:sp>
          <p:nvSpPr>
            <p:cNvPr id="275" name=""/>
            <p:cNvSpPr/>
            <p:nvPr/>
          </p:nvSpPr>
          <p:spPr>
            <a:xfrm>
              <a:off x="2560680" y="1341720"/>
              <a:ext cx="1365480" cy="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20760" y="1293840"/>
              <a:ext cx="168120" cy="98280"/>
            </a:xfrm>
            <a:custGeom>
              <a:avLst/>
              <a:gdLst/>
              <a:ahLst/>
              <a:rect l="l" t="t" r="r" b="b"/>
              <a:pathLst>
                <a:path w="159" h="156">
                  <a:moveTo>
                    <a:pt x="0" y="156"/>
                  </a:moveTo>
                  <a:lnTo>
                    <a:pt x="159" y="76"/>
                  </a:lnTo>
                  <a:lnTo>
                    <a:pt x="0" y="0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563920" y="1616040"/>
            <a:ext cx="1522080" cy="100080"/>
            <a:chOff x="2563920" y="1616040"/>
            <a:chExt cx="1522080" cy="100080"/>
          </a:xfrm>
        </p:grpSpPr>
        <p:sp>
          <p:nvSpPr>
            <p:cNvPr id="278" name=""/>
            <p:cNvSpPr/>
            <p:nvPr/>
          </p:nvSpPr>
          <p:spPr>
            <a:xfrm flipH="1">
              <a:off x="2721240" y="1665360"/>
              <a:ext cx="136476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63920" y="1616040"/>
              <a:ext cx="164880" cy="100080"/>
            </a:xfrm>
            <a:custGeom>
              <a:avLst/>
              <a:gdLst/>
              <a:ahLst/>
              <a:rect l="l" t="t" r="r" b="b"/>
              <a:pathLst>
                <a:path w="156" h="156">
                  <a:moveTo>
                    <a:pt x="156" y="0"/>
                  </a:moveTo>
                  <a:lnTo>
                    <a:pt x="0" y="77"/>
                  </a:lnTo>
                  <a:lnTo>
                    <a:pt x="156" y="156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560680" y="1123920"/>
            <a:ext cx="171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05640" y="116856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ffh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43000" y="11685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610000" y="1427040"/>
            <a:ext cx="152712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01320" y="1473120"/>
            <a:ext cx="52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alt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43000" y="14731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560680" y="1959120"/>
            <a:ext cx="1528200" cy="99720"/>
            <a:chOff x="2560680" y="1959120"/>
            <a:chExt cx="1528200" cy="99720"/>
          </a:xfrm>
        </p:grpSpPr>
        <p:sp>
          <p:nvSpPr>
            <p:cNvPr id="287" name=""/>
            <p:cNvSpPr/>
            <p:nvPr/>
          </p:nvSpPr>
          <p:spPr>
            <a:xfrm>
              <a:off x="2560680" y="2008080"/>
              <a:ext cx="136548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20760" y="1959120"/>
              <a:ext cx="168120" cy="99720"/>
            </a:xfrm>
            <a:custGeom>
              <a:avLst/>
              <a:gdLst/>
              <a:ahLst/>
              <a:rect l="l" t="t" r="r" b="b"/>
              <a:pathLst>
                <a:path w="159" h="156">
                  <a:moveTo>
                    <a:pt x="0" y="156"/>
                  </a:moveTo>
                  <a:lnTo>
                    <a:pt x="159" y="80"/>
                  </a:lnTo>
                  <a:lnTo>
                    <a:pt x="0" y="0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560680" y="1781280"/>
            <a:ext cx="171936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85840" y="1817640"/>
            <a:ext cx="59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al(m,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52560" y="18302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8120" y="2238480"/>
            <a:ext cx="4959360" cy="3201840"/>
          </a:xfrm>
          <a:prstGeom prst="rect">
            <a:avLst/>
          </a:prstGeom>
          <a:noFill/>
          <a:ln w="21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08280" y="2293920"/>
            <a:ext cx="2478240" cy="274680"/>
          </a:xfrm>
          <a:custGeom>
            <a:avLst/>
            <a:gdLst/>
            <a:ahLst/>
            <a:rect l="l" t="t" r="r" b="b"/>
            <a:pathLst>
              <a:path w="2340" h="432">
                <a:moveTo>
                  <a:pt x="317" y="0"/>
                </a:moveTo>
                <a:lnTo>
                  <a:pt x="0" y="216"/>
                </a:lnTo>
                <a:lnTo>
                  <a:pt x="317" y="432"/>
                </a:lnTo>
                <a:lnTo>
                  <a:pt x="2026" y="432"/>
                </a:lnTo>
                <a:lnTo>
                  <a:pt x="2340" y="216"/>
                </a:lnTo>
                <a:lnTo>
                  <a:pt x="2026" y="0"/>
                </a:lnTo>
                <a:lnTo>
                  <a:pt x="317" y="0"/>
                </a:lnTo>
                <a:close/>
              </a:path>
            </a:pathLst>
          </a:custGeom>
          <a:solidFill>
            <a:srgbClr val="ccffff"/>
          </a:solidFill>
          <a:ln w="21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86360" y="2467080"/>
            <a:ext cx="15271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39720" y="2511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03440" y="25113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25920" y="4068720"/>
            <a:ext cx="2477880" cy="274680"/>
          </a:xfrm>
          <a:custGeom>
            <a:avLst/>
            <a:gdLst/>
            <a:ahLst/>
            <a:rect l="l" t="t" r="r" b="b"/>
            <a:pathLst>
              <a:path w="2340" h="432">
                <a:moveTo>
                  <a:pt x="314" y="0"/>
                </a:moveTo>
                <a:lnTo>
                  <a:pt x="0" y="216"/>
                </a:lnTo>
                <a:lnTo>
                  <a:pt x="314" y="432"/>
                </a:lnTo>
                <a:lnTo>
                  <a:pt x="2023" y="432"/>
                </a:lnTo>
                <a:lnTo>
                  <a:pt x="2340" y="216"/>
                </a:lnTo>
                <a:lnTo>
                  <a:pt x="2023" y="0"/>
                </a:lnTo>
                <a:lnTo>
                  <a:pt x="314" y="0"/>
                </a:lnTo>
                <a:close/>
              </a:path>
            </a:pathLst>
          </a:custGeom>
          <a:solidFill>
            <a:srgbClr val="ccffff"/>
          </a:solidFill>
          <a:ln w="21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086360" y="2835360"/>
            <a:ext cx="1526760" cy="100080"/>
            <a:chOff x="4086360" y="2835360"/>
            <a:chExt cx="1526760" cy="100080"/>
          </a:xfrm>
        </p:grpSpPr>
        <p:sp>
          <p:nvSpPr>
            <p:cNvPr id="299" name=""/>
            <p:cNvSpPr/>
            <p:nvPr/>
          </p:nvSpPr>
          <p:spPr>
            <a:xfrm>
              <a:off x="4086360" y="2884680"/>
              <a:ext cx="1364040" cy="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46080" y="2835360"/>
              <a:ext cx="167040" cy="1000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0" y="156"/>
                  </a:moveTo>
                  <a:lnTo>
                    <a:pt x="158" y="77"/>
                  </a:lnTo>
                  <a:lnTo>
                    <a:pt x="0" y="0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563920" y="2987640"/>
            <a:ext cx="1522080" cy="100080"/>
            <a:chOff x="2563920" y="2987640"/>
            <a:chExt cx="1522080" cy="100080"/>
          </a:xfrm>
        </p:grpSpPr>
        <p:sp>
          <p:nvSpPr>
            <p:cNvPr id="302" name=""/>
            <p:cNvSpPr/>
            <p:nvPr/>
          </p:nvSpPr>
          <p:spPr>
            <a:xfrm flipH="1">
              <a:off x="2721240" y="3036960"/>
              <a:ext cx="1364760" cy="7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63920" y="2987640"/>
              <a:ext cx="164880" cy="100080"/>
            </a:xfrm>
            <a:custGeom>
              <a:avLst/>
              <a:gdLst/>
              <a:ahLst/>
              <a:rect l="l" t="t" r="r" b="b"/>
              <a:pathLst>
                <a:path w="156" h="156">
                  <a:moveTo>
                    <a:pt x="156" y="0"/>
                  </a:moveTo>
                  <a:lnTo>
                    <a:pt x="0" y="77"/>
                  </a:lnTo>
                  <a:lnTo>
                    <a:pt x="156" y="156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600200" y="3819600"/>
            <a:ext cx="4971600" cy="9360"/>
            <a:chOff x="1600200" y="3819600"/>
            <a:chExt cx="4971600" cy="9360"/>
          </a:xfrm>
        </p:grpSpPr>
        <p:sp>
          <p:nvSpPr>
            <p:cNvPr id="305" name=""/>
            <p:cNvSpPr/>
            <p:nvPr/>
          </p:nvSpPr>
          <p:spPr>
            <a:xfrm>
              <a:off x="1600200" y="3819600"/>
              <a:ext cx="7632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10" y="0"/>
                  </a:moveTo>
                  <a:lnTo>
                    <a:pt x="7" y="0"/>
                  </a:lnTo>
                  <a:lnTo>
                    <a:pt x="5" y="3"/>
                  </a:lnTo>
                  <a:lnTo>
                    <a:pt x="3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7" y="15"/>
                  </a:lnTo>
                  <a:lnTo>
                    <a:pt x="63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07120" y="3819600"/>
              <a:ext cx="7596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5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14040" y="3819600"/>
              <a:ext cx="7632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5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69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69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20960" y="3819600"/>
              <a:ext cx="7632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4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2" y="15"/>
                  </a:lnTo>
                  <a:lnTo>
                    <a:pt x="64" y="15"/>
                  </a:lnTo>
                  <a:lnTo>
                    <a:pt x="67" y="15"/>
                  </a:lnTo>
                  <a:lnTo>
                    <a:pt x="69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69" y="5"/>
                  </a:lnTo>
                  <a:lnTo>
                    <a:pt x="67" y="3"/>
                  </a:lnTo>
                  <a:lnTo>
                    <a:pt x="6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26800" y="3819600"/>
              <a:ext cx="7632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8" y="0"/>
                  </a:moveTo>
                  <a:lnTo>
                    <a:pt x="5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63" y="15"/>
                  </a:lnTo>
                  <a:lnTo>
                    <a:pt x="65" y="15"/>
                  </a:lnTo>
                  <a:lnTo>
                    <a:pt x="68" y="15"/>
                  </a:lnTo>
                  <a:lnTo>
                    <a:pt x="70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8" y="3"/>
                  </a:lnTo>
                  <a:lnTo>
                    <a:pt x="6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33720" y="3819600"/>
              <a:ext cx="7596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5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63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40640" y="3819600"/>
              <a:ext cx="7632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5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47920" y="3819600"/>
              <a:ext cx="7596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5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69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69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54840" y="3819600"/>
              <a:ext cx="7596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4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2" y="15"/>
                  </a:lnTo>
                  <a:lnTo>
                    <a:pt x="64" y="15"/>
                  </a:lnTo>
                  <a:lnTo>
                    <a:pt x="67" y="15"/>
                  </a:lnTo>
                  <a:lnTo>
                    <a:pt x="69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69" y="5"/>
                  </a:lnTo>
                  <a:lnTo>
                    <a:pt x="67" y="3"/>
                  </a:lnTo>
                  <a:lnTo>
                    <a:pt x="6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60680" y="3819600"/>
              <a:ext cx="7596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8" y="0"/>
                  </a:moveTo>
                  <a:lnTo>
                    <a:pt x="5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63" y="15"/>
                  </a:lnTo>
                  <a:lnTo>
                    <a:pt x="65" y="15"/>
                  </a:lnTo>
                  <a:lnTo>
                    <a:pt x="68" y="15"/>
                  </a:lnTo>
                  <a:lnTo>
                    <a:pt x="70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8" y="3"/>
                  </a:lnTo>
                  <a:lnTo>
                    <a:pt x="6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67600" y="3819600"/>
              <a:ext cx="7632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5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63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74520" y="3819600"/>
              <a:ext cx="7596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5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81440" y="3819600"/>
              <a:ext cx="7632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5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69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69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88360" y="3819600"/>
              <a:ext cx="7632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4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2" y="15"/>
                  </a:lnTo>
                  <a:lnTo>
                    <a:pt x="64" y="15"/>
                  </a:lnTo>
                  <a:lnTo>
                    <a:pt x="67" y="15"/>
                  </a:lnTo>
                  <a:lnTo>
                    <a:pt x="69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69" y="5"/>
                  </a:lnTo>
                  <a:lnTo>
                    <a:pt x="67" y="3"/>
                  </a:lnTo>
                  <a:lnTo>
                    <a:pt x="6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94200" y="3819600"/>
              <a:ext cx="7632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8" y="0"/>
                  </a:moveTo>
                  <a:lnTo>
                    <a:pt x="5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63" y="15"/>
                  </a:lnTo>
                  <a:lnTo>
                    <a:pt x="65" y="15"/>
                  </a:lnTo>
                  <a:lnTo>
                    <a:pt x="68" y="15"/>
                  </a:lnTo>
                  <a:lnTo>
                    <a:pt x="70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8" y="3"/>
                  </a:lnTo>
                  <a:lnTo>
                    <a:pt x="6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01480" y="3819600"/>
              <a:ext cx="7596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5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63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08040" y="3819600"/>
              <a:ext cx="7632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5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15320" y="3819600"/>
              <a:ext cx="7596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5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69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69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22240" y="3819600"/>
              <a:ext cx="7596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4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2" y="15"/>
                  </a:lnTo>
                  <a:lnTo>
                    <a:pt x="64" y="15"/>
                  </a:lnTo>
                  <a:lnTo>
                    <a:pt x="67" y="15"/>
                  </a:lnTo>
                  <a:lnTo>
                    <a:pt x="69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69" y="5"/>
                  </a:lnTo>
                  <a:lnTo>
                    <a:pt x="67" y="3"/>
                  </a:lnTo>
                  <a:lnTo>
                    <a:pt x="6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28080" y="3819600"/>
              <a:ext cx="7596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8" y="0"/>
                  </a:moveTo>
                  <a:lnTo>
                    <a:pt x="5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63" y="15"/>
                  </a:lnTo>
                  <a:lnTo>
                    <a:pt x="65" y="15"/>
                  </a:lnTo>
                  <a:lnTo>
                    <a:pt x="68" y="15"/>
                  </a:lnTo>
                  <a:lnTo>
                    <a:pt x="70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8" y="3"/>
                  </a:lnTo>
                  <a:lnTo>
                    <a:pt x="6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35000" y="3819600"/>
              <a:ext cx="7632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5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63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41920" y="3819600"/>
              <a:ext cx="7596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5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48840" y="3819600"/>
              <a:ext cx="7632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5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69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69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55760" y="3819600"/>
              <a:ext cx="7632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4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69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69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63040" y="3819600"/>
              <a:ext cx="7596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4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2" y="15"/>
                  </a:lnTo>
                  <a:lnTo>
                    <a:pt x="64" y="15"/>
                  </a:lnTo>
                  <a:lnTo>
                    <a:pt x="67" y="15"/>
                  </a:lnTo>
                  <a:lnTo>
                    <a:pt x="69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69" y="5"/>
                  </a:lnTo>
                  <a:lnTo>
                    <a:pt x="67" y="3"/>
                  </a:lnTo>
                  <a:lnTo>
                    <a:pt x="6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68880" y="3819600"/>
              <a:ext cx="7596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8" y="0"/>
                  </a:moveTo>
                  <a:lnTo>
                    <a:pt x="5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63" y="15"/>
                  </a:lnTo>
                  <a:lnTo>
                    <a:pt x="65" y="15"/>
                  </a:lnTo>
                  <a:lnTo>
                    <a:pt x="68" y="15"/>
                  </a:lnTo>
                  <a:lnTo>
                    <a:pt x="70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8" y="3"/>
                  </a:lnTo>
                  <a:lnTo>
                    <a:pt x="6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75800" y="3819600"/>
              <a:ext cx="7632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5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63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82720" y="3819600"/>
              <a:ext cx="7596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5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89640" y="3819600"/>
              <a:ext cx="7596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5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69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69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96560" y="3819600"/>
              <a:ext cx="7632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4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2" y="15"/>
                  </a:lnTo>
                  <a:lnTo>
                    <a:pt x="64" y="15"/>
                  </a:lnTo>
                  <a:lnTo>
                    <a:pt x="67" y="15"/>
                  </a:lnTo>
                  <a:lnTo>
                    <a:pt x="69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69" y="5"/>
                  </a:lnTo>
                  <a:lnTo>
                    <a:pt x="67" y="3"/>
                  </a:lnTo>
                  <a:lnTo>
                    <a:pt x="6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02400" y="3819600"/>
              <a:ext cx="7632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8" y="0"/>
                  </a:moveTo>
                  <a:lnTo>
                    <a:pt x="5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63" y="15"/>
                  </a:lnTo>
                  <a:lnTo>
                    <a:pt x="65" y="15"/>
                  </a:lnTo>
                  <a:lnTo>
                    <a:pt x="68" y="15"/>
                  </a:lnTo>
                  <a:lnTo>
                    <a:pt x="70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8" y="3"/>
                  </a:lnTo>
                  <a:lnTo>
                    <a:pt x="6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09680" y="3819600"/>
              <a:ext cx="7596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5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63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16240" y="3819600"/>
              <a:ext cx="7632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5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23160" y="3819600"/>
              <a:ext cx="7632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5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69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69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30440" y="3819600"/>
              <a:ext cx="7596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4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2" y="15"/>
                  </a:lnTo>
                  <a:lnTo>
                    <a:pt x="64" y="15"/>
                  </a:lnTo>
                  <a:lnTo>
                    <a:pt x="67" y="15"/>
                  </a:lnTo>
                  <a:lnTo>
                    <a:pt x="69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69" y="5"/>
                  </a:lnTo>
                  <a:lnTo>
                    <a:pt x="67" y="3"/>
                  </a:lnTo>
                  <a:lnTo>
                    <a:pt x="6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336280" y="3819600"/>
              <a:ext cx="7596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8" y="0"/>
                  </a:moveTo>
                  <a:lnTo>
                    <a:pt x="5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63" y="15"/>
                  </a:lnTo>
                  <a:lnTo>
                    <a:pt x="65" y="15"/>
                  </a:lnTo>
                  <a:lnTo>
                    <a:pt x="68" y="15"/>
                  </a:lnTo>
                  <a:lnTo>
                    <a:pt x="70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8" y="3"/>
                  </a:lnTo>
                  <a:lnTo>
                    <a:pt x="6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43200" y="3819600"/>
              <a:ext cx="7632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5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63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50120" y="3819600"/>
              <a:ext cx="7596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5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657040" y="3819600"/>
              <a:ext cx="7596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5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69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69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63960" y="3819600"/>
              <a:ext cx="7632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4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2" y="15"/>
                  </a:lnTo>
                  <a:lnTo>
                    <a:pt x="64" y="15"/>
                  </a:lnTo>
                  <a:lnTo>
                    <a:pt x="67" y="15"/>
                  </a:lnTo>
                  <a:lnTo>
                    <a:pt x="69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69" y="5"/>
                  </a:lnTo>
                  <a:lnTo>
                    <a:pt x="67" y="3"/>
                  </a:lnTo>
                  <a:lnTo>
                    <a:pt x="6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69800" y="3819600"/>
              <a:ext cx="7632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8" y="0"/>
                  </a:moveTo>
                  <a:lnTo>
                    <a:pt x="5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63" y="15"/>
                  </a:lnTo>
                  <a:lnTo>
                    <a:pt x="65" y="15"/>
                  </a:lnTo>
                  <a:lnTo>
                    <a:pt x="68" y="15"/>
                  </a:lnTo>
                  <a:lnTo>
                    <a:pt x="70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8" y="3"/>
                  </a:lnTo>
                  <a:lnTo>
                    <a:pt x="6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77080" y="3819600"/>
              <a:ext cx="7596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5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63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84000" y="3819600"/>
              <a:ext cx="7632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5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90920" y="3819600"/>
              <a:ext cx="7632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5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5"/>
                  </a:lnTo>
                  <a:lnTo>
                    <a:pt x="62" y="15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69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69" y="5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97840" y="3819600"/>
              <a:ext cx="7596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" y="0"/>
                  </a:moveTo>
                  <a:lnTo>
                    <a:pt x="4" y="0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2" y="15"/>
                  </a:lnTo>
                  <a:lnTo>
                    <a:pt x="64" y="15"/>
                  </a:lnTo>
                  <a:lnTo>
                    <a:pt x="67" y="15"/>
                  </a:lnTo>
                  <a:lnTo>
                    <a:pt x="69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69" y="5"/>
                  </a:lnTo>
                  <a:lnTo>
                    <a:pt x="67" y="3"/>
                  </a:lnTo>
                  <a:lnTo>
                    <a:pt x="64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03680" y="3819600"/>
              <a:ext cx="75960" cy="936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8" y="0"/>
                  </a:moveTo>
                  <a:lnTo>
                    <a:pt x="5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63" y="15"/>
                  </a:lnTo>
                  <a:lnTo>
                    <a:pt x="65" y="15"/>
                  </a:lnTo>
                  <a:lnTo>
                    <a:pt x="68" y="15"/>
                  </a:lnTo>
                  <a:lnTo>
                    <a:pt x="70" y="12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0" y="5"/>
                  </a:lnTo>
                  <a:lnTo>
                    <a:pt x="68" y="3"/>
                  </a:lnTo>
                  <a:lnTo>
                    <a:pt x="6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510600" y="3819600"/>
              <a:ext cx="61200" cy="9360"/>
            </a:xfrm>
            <a:custGeom>
              <a:avLst/>
              <a:gdLst/>
              <a:ahLst/>
              <a:rect l="l" t="t" r="r" b="b"/>
              <a:pathLst>
                <a:path w="58" h="15">
                  <a:moveTo>
                    <a:pt x="7" y="0"/>
                  </a:moveTo>
                  <a:lnTo>
                    <a:pt x="5" y="0"/>
                  </a:lnTo>
                  <a:lnTo>
                    <a:pt x="3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5"/>
                  </a:lnTo>
                  <a:lnTo>
                    <a:pt x="5" y="15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3" y="12"/>
                  </a:lnTo>
                  <a:lnTo>
                    <a:pt x="55" y="10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55" y="5"/>
                  </a:lnTo>
                  <a:lnTo>
                    <a:pt x="53" y="3"/>
                  </a:lnTo>
                  <a:lnTo>
                    <a:pt x="5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981080" y="5029200"/>
            <a:ext cx="2668680" cy="272880"/>
          </a:xfrm>
          <a:custGeom>
            <a:avLst/>
            <a:gdLst/>
            <a:ahLst/>
            <a:rect l="l" t="t" r="r" b="b"/>
            <a:pathLst>
              <a:path w="2520" h="432">
                <a:moveTo>
                  <a:pt x="341" y="0"/>
                </a:moveTo>
                <a:lnTo>
                  <a:pt x="0" y="216"/>
                </a:lnTo>
                <a:lnTo>
                  <a:pt x="341" y="432"/>
                </a:lnTo>
                <a:lnTo>
                  <a:pt x="2182" y="432"/>
                </a:lnTo>
                <a:lnTo>
                  <a:pt x="2520" y="216"/>
                </a:lnTo>
                <a:lnTo>
                  <a:pt x="2182" y="0"/>
                </a:lnTo>
                <a:lnTo>
                  <a:pt x="341" y="0"/>
                </a:lnTo>
                <a:close/>
              </a:path>
            </a:pathLst>
          </a:custGeom>
          <a:solidFill>
            <a:srgbClr val="ff99cc"/>
          </a:solidFill>
          <a:ln w="21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08120" y="2238480"/>
            <a:ext cx="765360" cy="230040"/>
          </a:xfrm>
          <a:prstGeom prst="rect">
            <a:avLst/>
          </a:prstGeom>
          <a:solidFill>
            <a:srgbClr val="ffffff"/>
          </a:solidFill>
          <a:ln w="21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83200" y="2293920"/>
            <a:ext cx="1527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35120" y="23400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98120" y="23385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57960" y="2340000"/>
            <a:ext cx="64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id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19360" y="23400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49400" y="3390840"/>
            <a:ext cx="32418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81480" y="3438360"/>
            <a:ext cx="36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44440" y="3441600"/>
            <a:ext cx="126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ne(m, ringing 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49600" y="34416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86360" y="3914640"/>
            <a:ext cx="1908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239720" y="3959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02720" y="40845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501800" y="4084560"/>
            <a:ext cx="83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(valid 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527440" y="3959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16080" y="5008680"/>
            <a:ext cx="2594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66560" y="50626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48240" y="5059440"/>
            <a:ext cx="32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51440" y="5062680"/>
            <a:ext cx="99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ne(m, bus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68600" y="50626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58960" y="2282760"/>
            <a:ext cx="20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76120" y="22827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09920" y="2608200"/>
            <a:ext cx="15274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17720" y="2658960"/>
            <a:ext cx="31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24240" y="26589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51120" y="2751120"/>
            <a:ext cx="15289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03040" y="2801880"/>
            <a:ext cx="31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36720" y="28018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590920" y="4572000"/>
            <a:ext cx="1522080" cy="98280"/>
            <a:chOff x="2590920" y="4572000"/>
            <a:chExt cx="1522080" cy="98280"/>
          </a:xfrm>
        </p:grpSpPr>
        <p:sp>
          <p:nvSpPr>
            <p:cNvPr id="382" name=""/>
            <p:cNvSpPr/>
            <p:nvPr/>
          </p:nvSpPr>
          <p:spPr>
            <a:xfrm flipH="1">
              <a:off x="2748240" y="4620240"/>
              <a:ext cx="1364760" cy="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0920" y="4572000"/>
              <a:ext cx="164880" cy="98280"/>
            </a:xfrm>
            <a:custGeom>
              <a:avLst/>
              <a:gdLst/>
              <a:ahLst/>
              <a:rect l="l" t="t" r="r" b="b"/>
              <a:pathLst>
                <a:path w="156" h="156">
                  <a:moveTo>
                    <a:pt x="156" y="0"/>
                  </a:moveTo>
                  <a:lnTo>
                    <a:pt x="0" y="80"/>
                  </a:lnTo>
                  <a:lnTo>
                    <a:pt x="156" y="156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720880" y="4314960"/>
            <a:ext cx="15271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62240" y="4363920"/>
            <a:ext cx="34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76320" y="436392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79640" y="5653080"/>
            <a:ext cx="1155600" cy="177840"/>
          </a:xfrm>
          <a:prstGeom prst="rect">
            <a:avLst/>
          </a:prstGeom>
          <a:solidFill>
            <a:srgbClr val="969696"/>
          </a:solidFill>
          <a:ln w="21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39480" y="570564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03520" y="5646600"/>
            <a:ext cx="1157400" cy="177840"/>
          </a:xfrm>
          <a:prstGeom prst="rect">
            <a:avLst/>
          </a:prstGeom>
          <a:solidFill>
            <a:srgbClr val="969696"/>
          </a:solidFill>
          <a:ln w="21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665160" y="56991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024520" y="5662440"/>
            <a:ext cx="1155600" cy="176400"/>
          </a:xfrm>
          <a:prstGeom prst="rect">
            <a:avLst/>
          </a:prstGeom>
          <a:solidFill>
            <a:srgbClr val="969696"/>
          </a:solidFill>
          <a:ln w="21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84360" y="57150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81680" y="3581280"/>
            <a:ext cx="2210040" cy="685800"/>
          </a:xfrm>
          <a:prstGeom prst="wedgeRoundRectCallout">
            <a:avLst>
              <a:gd name="adj1" fmla="val -158407"/>
              <a:gd name="adj2" fmla="val 17870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Постуслов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76520" y="685800"/>
            <a:ext cx="3276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120760" y="1790640"/>
            <a:ext cx="3962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2133720"/>
            <a:ext cx="441936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05120" y="3886200"/>
            <a:ext cx="441936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1447920"/>
            <a:ext cx="1219320" cy="749160"/>
          </a:xfrm>
          <a:prstGeom prst="wedgeRoundRectCallout">
            <a:avLst>
              <a:gd name="adj1" fmla="val 89064"/>
              <a:gd name="adj2" fmla="val -74365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 setup ini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" y="3505320"/>
            <a:ext cx="1219320" cy="749160"/>
          </a:xfrm>
          <a:prstGeom prst="wedgeRoundRectCallout">
            <a:avLst>
              <a:gd name="adj1" fmla="val 121356"/>
              <a:gd name="adj2" fmla="val -259111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 setup dialing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162920" y="2057400"/>
            <a:ext cx="1218960" cy="749160"/>
          </a:xfrm>
          <a:prstGeom prst="wedgeRoundRectCallout">
            <a:avLst>
              <a:gd name="adj1" fmla="val -147398"/>
              <a:gd name="adj2" fmla="val 9343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 setup dialing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315200" y="4495680"/>
            <a:ext cx="1219320" cy="749520"/>
          </a:xfrm>
          <a:prstGeom prst="wedgeRoundRectCallout">
            <a:avLst>
              <a:gd name="adj1" fmla="val -145314"/>
              <a:gd name="adj2" fmla="val -6250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 setup failur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781680" y="3581280"/>
            <a:ext cx="2210040" cy="685800"/>
          </a:xfrm>
          <a:prstGeom prst="wedgeRoundRectCallout">
            <a:avLst>
              <a:gd name="adj1" fmla="val -121481"/>
              <a:gd name="adj2" fmla="val -57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Аннот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FAE9-B1D9-446A-8133-68686CFA04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imes New Roman"/>
              </a:rPr>
              <a:t>Basic Protocols Specification Language</a:t>
            </a:r>
            <a:br>
              <a:rPr sz="3600"/>
            </a:br>
            <a:r>
              <a:rPr b="0" lang="en-US" sz="3600" spc="-1" strike="noStrike">
                <a:solidFill>
                  <a:srgbClr val="cc0066"/>
                </a:solidFill>
                <a:latin typeface="Times New Roman"/>
              </a:rPr>
              <a:t>(BPSL)</a:t>
            </a:r>
            <a:endParaRPr b="0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6520" y="1981080"/>
            <a:ext cx="7800840" cy="3264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P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спецификация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BP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писание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Определяет сигнатуру и аксиомы Базового Языка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Times New Roman"/>
              </a:rPr>
              <a:t>(язык первого порядка, используемый для разметки состояний сред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Множество базовых протоко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Определяет переходы среды с погруженными агент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5C5F-CE88-4880-BC74-F5BCACF6EC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Times New Roman"/>
              </a:rPr>
              <a:t>Базовый язык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" y="990720"/>
            <a:ext cx="8381880" cy="527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игна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Структуры данных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типы, функ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Атрибуты:</a:t>
            </a: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 выделенные функциональные символ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(простые и параметризованные атрибут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Атрибуты агентов: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.</a:t>
            </a:r>
            <a:r>
              <a:rPr b="0" i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g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,…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Предикаты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интерпретированные (например, числовые) и </a:t>
            </a: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неинтерпретирова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пециальные типы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типы агентов, имена агентов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ids)</a:t>
            </a: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, состояния агентов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tate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hone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=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dle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, числовые, перечислимые, структуры данных (списки, массивы,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Аксиомы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and </a:t>
            </a: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и алгоритмы поверки общезначимости и выполнимости </a:t>
            </a: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форму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Язык предусловий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f</a:t>
            </a: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формулы первого порядка Базового Языка (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BL)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Язык постусловий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the same as </a:t>
            </a:r>
            <a:r>
              <a:rPr b="0" lang="ru-RU" sz="2000" spc="-1" strike="noStrike">
                <a:solidFill>
                  <a:srgbClr val="a50021"/>
                </a:solidFill>
                <a:latin typeface="Times New Roman"/>
              </a:rPr>
              <a:t>предусловия + присваивания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:=</a:t>
            </a:r>
            <a:r>
              <a:rPr b="0" i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 ~ (</a:t>
            </a:r>
            <a:r>
              <a:rPr b="0" i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a50021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89760" y="2971800"/>
            <a:ext cx="297432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Детали зависят 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предметной обла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6CBF-55D2-430E-98CF-360313FB17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05:33:58Z</dcterms:created>
  <dc:creator>Valued Sony Customer</dc:creator>
  <dc:description/>
  <dc:language>en-US</dc:language>
  <cp:lastModifiedBy> </cp:lastModifiedBy>
  <dcterms:modified xsi:type="dcterms:W3CDTF">2007-04-02T19:23:49Z</dcterms:modified>
  <cp:revision>136</cp:revision>
  <dc:subject/>
  <dc:title>Агенты, среды и проектирование программного обеспечения</dc:title>
</cp:coreProperties>
</file>