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BFA8-1601-4BDD-914F-3DDBCB3FD9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5789-5251-48ED-8623-1DB4DECA44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08CB-1AF3-4F2B-A1F5-6BF5AE092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717E-1165-4D89-9118-CF9C66CD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8AFD-A446-4C52-B69C-FB0499A7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8980-970F-4884-8D6B-F5DAE2027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5C4C-1ED4-4C1E-89A2-A5EB2581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140C-5A6A-4736-9A62-80377FA3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E578-4C05-4F78-8E11-A6229A37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8D99-B6E9-48E4-9979-70FD1A0A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83F1-1CCB-4892-9B37-C2759226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4848-A678-4DFF-9AC6-71B87C84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9F10-76BC-4718-976D-4C30B7E1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D197-D6D8-4CF6-A7F4-52975BD5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277B-84A4-44C4-A9FF-373759FA52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84836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Алгебраическое программирование и </a:t>
            </a:r>
            <a:r>
              <a:rPr b="1" lang="uk-UA" sz="3200" spc="-1" strike="noStrike">
                <a:solidFill>
                  <a:srgbClr val="c00000"/>
                </a:solidFill>
                <a:latin typeface="Times New Roman"/>
              </a:rPr>
              <a:t>инсерционное моделирование </a:t>
            </a:r>
            <a:br>
              <a:rPr sz="3200"/>
            </a:br>
            <a:br>
              <a:rPr sz="2400"/>
            </a:br>
            <a:r>
              <a:rPr b="1" lang="uk-UA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cc0066"/>
                </a:solidFill>
                <a:latin typeface="Times New Roman"/>
              </a:rPr>
              <a:t>Лекция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10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Система алгебраического программирования </a:t>
            </a:r>
            <a:br>
              <a:rPr sz="2400"/>
            </a:b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2577-89E6-4A57-A7FA-9996D14A62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Система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09480" y="1828800"/>
            <a:ext cx="7848720" cy="4038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Основные особенност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Интеграция всех основных парадиг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ереписывание с последующей канонизаци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Использование стратегий переписы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Алгебраические структуры дан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                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(графовые терм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AD79-F462-4B4E-A303-43BC04FADA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Язык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 A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533520" y="1676520"/>
            <a:ext cx="8076960" cy="4587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Алгебраические программы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Алгебраические выра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ереписывающие прави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роцедур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Базовые операто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Вычисление знач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риведение к канонической фор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5410080" y="1905120"/>
            <a:ext cx="3505320" cy="1411200"/>
          </a:xfrm>
          <a:prstGeom prst="wedgeRoundRectCallout">
            <a:avLst>
              <a:gd name="adj1" fmla="val -72643"/>
              <a:gd name="adj2" fmla="val 2075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описания имен и отмет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ачальные присваи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инклу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1"/>
          <p:cNvSpPr/>
          <p:nvPr/>
        </p:nvSpPr>
        <p:spPr>
          <a:xfrm>
            <a:off x="5715000" y="3505320"/>
            <a:ext cx="2743200" cy="1676160"/>
          </a:xfrm>
          <a:prstGeom prst="wedgeRoundRectCallout">
            <a:avLst>
              <a:gd name="adj1" fmla="val -132175"/>
              <a:gd name="adj2" fmla="val 1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присваива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установ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while,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Вызов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comp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05:33:58Z</dcterms:created>
  <dc:creator>Valued Sony Customer</dc:creator>
  <dc:description/>
  <dc:language>en-US</dc:language>
  <cp:lastModifiedBy>Alexander</cp:lastModifiedBy>
  <dcterms:modified xsi:type="dcterms:W3CDTF">2008-04-18T07:36:08Z</dcterms:modified>
  <cp:revision>100</cp:revision>
  <dc:subject/>
  <dc:title>Агенты, среды и проектирование программного обеспечения</dc:title>
</cp:coreProperties>
</file>