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44BC-3EAD-4DA3-988A-BF31538077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F209-1FE9-41FC-A195-053BFBBBEA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5D39-8E15-4638-BBB3-9BB39EC3E2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DFB-AFD2-4BA3-AD7F-AA611E7482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9C3-48C8-4D1F-BBFD-929E5785C6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619-61CC-448C-8742-6B987833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AF7-B1D8-4538-A88B-72DA6974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3F8-AF3C-4D87-B6D2-4337AB3D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CD1-FF71-494F-97CC-463EA9F9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7BB-17CE-4465-B5AB-DC105FE3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58D-9937-4A30-BF07-0BFAE1A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688-7FCF-41A4-A340-80C1C4B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2A6-6D9B-44C3-9919-CD9F275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4FE-D0C5-444C-A6A1-431C5E20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836-7230-4DE6-8C5F-5749FB9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F2C-37E7-48A9-ADFF-29A525D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23C-0125-45CC-BE11-274E033D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0D8-CFB9-43A1-B8D5-1FDB2D023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нсерционное моделирование 2</a:t>
            </a:r>
            <a:br>
              <a:rPr sz="2800"/>
            </a:br>
            <a:br>
              <a:rPr sz="3200"/>
            </a:br>
            <a:r>
              <a:rPr b="1" lang="uk-UA" sz="2000" spc="-1" strike="noStrike">
                <a:solidFill>
                  <a:srgbClr val="cc0066"/>
                </a:solidFill>
                <a:latin typeface="Times New Roman"/>
              </a:rPr>
              <a:t>Лекция</a:t>
            </a:r>
            <a:r>
              <a:rPr b="1" lang="ru-RU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2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Проблема полноты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219320" y="500076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schum.kiev.ua/let/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81040" y="42876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91966"/>
                </a:solidFill>
                <a:latin typeface="Times New Roman"/>
              </a:rPr>
              <a:t>2 Сентября 2009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Проблема полноты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621-BC44-4174-91CC-262C1BEA96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642960" y="1714680"/>
            <a:ext cx="77724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любом достижимом состоянии по крайней мере один протокол примени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Times New Roman"/>
              </a:rPr>
              <a:t>Достаточное условие полноты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дизъюнкция условий применимости = 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неполнота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&lt;=&gt;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озможны тупиковые состояния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 их найти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Нарушение достаточного условия полноты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&lt;=&gt;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выполнимость отрицания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остроить днф для конъюнкции большого числа формул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Конъюнкт – состояние возможного тупика. Проверить достижимость.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Построение ДНФ для перечислимых типов данных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106-B10B-4F1C-9184-84A29260C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"/>
              <p:cNvSpPr txBox="1"/>
              <p:nvPr/>
            </p:nvSpPr>
            <p:spPr>
              <a:xfrm>
                <a:off x="2143080" y="1857240"/>
                <a:ext cx="47862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lt;=&gt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,_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_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_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Rectangle 3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785880" y="371484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Меньше литералов – меньше конъюнкто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enumerated/1-dnf enumerat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EA4-EAA8-4E2E-9A48-60418508EA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714240" y="571680"/>
            <a:ext cx="777240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ннотации для программы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formula2dn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2. Корректность оператора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ppls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-&gt;&lt; appls(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)&gt;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s:=proc(t,R)(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hile(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r(t,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y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:=1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-&gt;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-&gt;&lt;applr(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)&gt;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, ~(appl(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))&amp;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-&gt;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Инварианты системы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extract_l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Инварианты системы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eparate_conj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Олександр</cp:lastModifiedBy>
  <dcterms:modified xsi:type="dcterms:W3CDTF">2009-09-15T17:58:03Z</dcterms:modified>
  <cp:revision>207</cp:revision>
  <dc:subject/>
  <dc:title>Агенты, среды и проектирование программного обеспечения</dc:title>
</cp:coreProperties>
</file>